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49595"/>
        <c:axId val="54280877"/>
      </c:barChart>
      <c:catAx>
        <c:axId val="91849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80877"/>
        <c:crosses val="autoZero"/>
        <c:auto val="1"/>
        <c:lblAlgn val="ctr"/>
        <c:lblOffset val="100"/>
        <c:noMultiLvlLbl val="0"/>
      </c:catAx>
      <c:valAx>
        <c:axId val="54280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49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9C3-37BE-409B-AE22-EC7EA50C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BBE-6692-4CEC-9150-4D6E3A27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0B0-0CAD-450F-B87B-886B2B61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FDC-8AF6-4A63-8234-78ACCC3C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3E3-F8AD-4EB7-9512-3FBC6051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D7A-E01D-429C-89C1-6DE35143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9EA-9E11-47B4-A1DA-8FB84701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88C-73EB-4D9F-B589-008438E2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D0F-537B-49F7-97A9-66E937F3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0B5-D3B8-4676-B6FB-D80502B4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15E-946F-4B65-8133-50B12225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9BB-E129-4F7C-82B4-6EB2F947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24184-F65A-4C21-B1D4-464747BA75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