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73910"/>
        <c:axId val="77529992"/>
      </c:barChart>
      <c:catAx>
        <c:axId val="66473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29992"/>
        <c:crosses val="autoZero"/>
        <c:auto val="1"/>
        <c:lblAlgn val="ctr"/>
        <c:lblOffset val="100"/>
        <c:noMultiLvlLbl val="0"/>
      </c:catAx>
      <c:valAx>
        <c:axId val="775299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73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BA5-0A47-448E-811D-514BB57C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D2A-B2C9-47E9-B55D-71A4836C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B3E-951F-4F41-BAC4-5BCE7ACC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D8ED-D00E-4B2C-9F43-EA6B5186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241-DD17-422F-8349-80FA34C8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5AD-E870-44A3-8F14-D7346F9B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C09-D07F-432F-B9E7-15BC5EB6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342-2698-43BF-9CFD-982BB983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217-4196-4802-A1D4-FE9D7429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7D2-08FB-4E23-BBAA-2D2B99F2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8B23-CD0E-4DAC-9900-46711798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980-1D0C-4C88-A3E6-89B7F48C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E06A8-710B-4916-BE3F-1520ACB3A9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