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7E98F-D126-4E97-8B94-A0E0AEDF9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0F2C1-65AF-493A-A4CF-3621C9E0F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ED7B9-870F-4D35-994E-23683E02F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5702C-2466-453A-9CC0-8E7EF969F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33670-4D99-40BC-A5AD-C6EA95271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4A13E-3324-4481-AFB6-2FE0867D5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F64C7-DB99-4E82-B5A5-7CD9A546C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8AB61-DB84-4313-B3C2-A0A623DB2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EAE65-4AD5-4A71-8813-EC14A156D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11A3A-B8C0-4F80-95E3-F9701A617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29E4A-75B6-4195-A7C1-A34DFF32A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0276C-2D67-44B3-9F6B-57845F699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CE595-0D68-4D65-AE1A-E63D52D6E6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Math 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4343400" y="4114800"/>
                <a:ext cx="7714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∈</m:t>
                    </m:r>
                    <m:nary>
                      <m:naryPr>
                        <m:chr m:val="∰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1:09:10Z</dcterms:created>
  <dc:creator>Oliver Craemer</dc:creator>
  <dc:description/>
  <dc:language>en-US</dc:language>
  <cp:lastModifiedBy>Oliver Craemer</cp:lastModifiedBy>
  <dcterms:modified xsi:type="dcterms:W3CDTF">2005-01-06T11:09:21Z</dcterms:modified>
  <cp:revision>1</cp:revision>
  <dc:subject/>
  <dc:title>Math OLE</dc:title>
</cp:coreProperties>
</file>