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5F62-A0DF-4001-BA44-FA008C74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256C-9DEB-4A8E-8FD4-E457BA15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2BC9F-3198-472D-84EC-79183EEC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F262E-5594-4050-BA78-AA6ECD0F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64B4F-057F-4BE7-B311-B6290884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AD569-BBF1-41BD-9470-4E71406F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03B95-4B9E-451E-888C-682B614A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6CE0F-C79F-47BC-928B-D6966659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0AA25-8223-4D8D-B9FA-681D29CC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97479-ED7B-4358-B951-957E5BC4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998F9-DB69-48B3-A3D2-A99E7F3B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A1F159-3D05-42D9-B54A-3BD0162B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AD5B-2DA4-4B55-9CB0-41F5C20F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5786C7-BD68-4821-A8B3-5DE10A4A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FDB569-D1E4-44FA-90A5-224822B1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E8AA25-0970-418B-AE72-5961C4B0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C05343-4072-4118-A0B2-DFBE8E8C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41BB2F-BE33-4766-A338-C1C37E48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AA3D6F-AF31-4EE8-B290-3DB3D981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A26489-009E-49DE-8195-DF946FA2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0BC525-0193-4C45-907D-C202FAAD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B45673-81EB-4031-9666-3B24166D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F2CD3F-A759-486E-8105-7A5A4A08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F051-31C6-4563-829E-9372176A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D07520-56BE-4CF8-93D8-4289763A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54ABF-D89F-43F7-9F0E-DFC6358B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FA892-B22A-4930-BBAA-F2655A6F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FA290-0480-4A22-A2BB-1B77403A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2A65A-5749-4CD8-847F-A2565618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FC978-E54D-4831-BA9D-5733ADE4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5471C-E58D-485B-8842-17B43304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43730-12C4-4F38-9614-4CF40C06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C43BA-251B-49B1-ABA4-2560C15E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2920C-B8C4-4E60-A88C-CC72F683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7D9C-DBDB-4A04-A291-C8C5CFFF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77F97-606C-4C20-AC66-B1EFC6B0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EC885-FF41-482F-AE7B-8A1D2215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31828-444B-4E37-A17C-F6E547F1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9E5A5-E098-44D7-82A0-5352FF36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C7FAA-ECBC-4F98-9AED-75F5BB66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D81B4-7C86-49D7-92E5-2A0E7777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A01B1-778B-483C-ACD9-FE15F6E2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7FDB4-9467-4BAD-BE7F-AB0B1632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3315B-F079-4936-B08E-6EBEB2FB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08919-9D0B-4885-8CDA-63687177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111E-6AA0-4006-B36D-D799BB63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19111-0234-4F96-B448-FBA6E2C5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0F5E9-581F-4CDE-9075-EEED5CAF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38BDF-8006-4B46-8BFD-13C81AB1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ED840-5185-4FFB-A499-7DD21BBA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B4AC0-0D8C-47D5-BFD5-C8CF2DD4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D15C-4AC0-4500-A3A1-364AD030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142A-A5EE-47C9-8E4E-2DB52596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15D2-259D-4E97-AED8-7A5555D7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CCCB-2977-405E-9EE2-42649A66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5576-BC05-41FC-9371-E5B6919B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9E4C-8C72-4D0A-AE2C-A056D66D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7C0F-DE19-4DC3-BD48-18D6C53B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889C-9C62-44D6-B0C3-152D3D9B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39E8-DD63-4C9E-8A0F-AC8FB296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0855-5E88-4260-9AF5-5A8240DD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399E-B1D9-4C6A-BEB9-644E135E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7715A-0196-4AFA-8F6F-3AFADA22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3E470-EF2B-4D11-957C-E4F81309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1470C-A095-4267-A75B-F11C85DF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399BD-A3D3-40F6-BC4C-A687DC2D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32969-7FFA-42F1-AD0E-01BF0031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499D-2B39-42B8-856B-EB2680C0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A9FA0-0E50-4B6C-9B17-579EC9FC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2AB29-11D7-40AA-BF7A-7948A9AD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6B3E3-6237-4795-81DD-76E2ABFE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5D1EC-CA45-4344-B1AE-940BD274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BF5D1-C531-4659-9627-A8D11B56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4195A-F246-4993-BC8A-7266E31F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CBDF2-2423-4967-B7D6-DA130B2F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45101-EF35-40EB-AB2A-7A92AE7A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5ECB1-EF16-48EC-9602-7F5BEA09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760F6-3EC8-4344-A66A-55A339F3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2F64-4AA3-4A56-B26B-DEDB41DF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AB287-1DC7-46F6-A1D2-963EC1C2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F78F8-1346-4B10-BACC-BD4F9E07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D479E-9E73-4326-856E-E4DB9B0C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E3059-F1F4-4EEF-AC44-48D1C5A0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34A7D-5268-4D53-A8B1-EA92C954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AFBBC-5F63-4F0C-A57E-7D74D3E9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DC90A-1F4F-44D3-970E-01A6CE02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37D0C-490B-477D-9A06-9FE9E647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40E88-F0E6-46FA-A516-B30718FC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F685AA-4B06-468E-ABCE-BE836B76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1134-4E4F-4F65-B944-A741A1B8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982570-31B4-48D4-9DD7-675B350F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8B922A-AD53-431C-B452-F65E327D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29BA35-665E-4E6E-B1E0-B294BD01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F67F46-1AB8-4B5F-83DA-FB09C7A4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45F989-CC96-470E-8262-1100F98E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87311F-D0DF-4BC1-9985-C368E0E0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AD94CB-019C-4349-A2C1-3EFD2C1B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48E61A-093C-4612-8132-8CB0F673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DA973D-05AF-4490-94D6-B76D6EBF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B00A94-617C-442A-B343-FD00BB6D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6C70-809A-48B5-B83F-1FC2528C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3C1033-5814-4966-98E9-DF814C98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AF011-AD70-4291-A5A0-CD4CF94C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E520C-935A-4DD6-9144-42B7ADB9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D5628-7EE0-4B3A-903B-9F39E01C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1A3B7-5A38-41CD-A97A-C28AB643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21979-BC61-4806-ADA4-671048F9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70B87-49C6-4510-B065-9267B211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B2620-3CE2-41A4-8872-EB3004B2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983FE-026F-4EAE-852C-D392AA83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0BAB6-2344-4030-9C60-17E8B4CE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22F0-F74C-4FCF-B455-7E5146FD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8B2DE-D09F-4B41-85C7-3260EEF4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4B443-7B8A-4543-8B56-9FB9989B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5421A-F2C6-4144-9D1F-59A605A4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72620-1B11-45A9-B056-00780F14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9F4CA-6D13-42BB-9075-52F06108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4A76F-BC83-45E1-822D-4968AF5A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7AF07-A27A-4A10-8865-97A5FBCD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B0844-E17E-4886-9C27-77FB8623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8111B-760B-4968-B2EE-09CA4672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E2A9C-1868-48BB-AD45-D7855BA0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FBB9-65A9-4AE2-B7E8-4A712510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ED305-60CA-48BD-9C2F-205F99C7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4EFE4-3281-42C5-AD9E-E831233E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A2C7D-A299-4C19-B611-91D915EC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DD058-3DA3-42E0-AFDD-410751B2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C4D6A-DA85-4DE7-B2D7-5F1BBA6D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84859-F455-47F0-9090-0E6C5726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9E1BA-96BA-4878-AA70-5B82A792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306ED-6B7A-4847-9857-7CB5E418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B7128-50CD-4EA1-B88A-B3990346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302A7-D912-4631-950A-F6101517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DAF8-03CC-4882-9055-5203A692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FEB1C-815E-42CC-BEAC-B92E5677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9EAFC-F859-42C7-9174-EA0C9C35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E08A7-9016-4AC4-BD8C-12DE6D29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AF044-D866-4ABB-8215-BBE69CFD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14CFD-6A50-4E48-9CF8-5940C4D0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12058-B319-4327-8E33-6C1A3826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34A6D-8285-4708-ABC8-DA0F95C3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DFE29-56A8-4BD4-9924-9F15C76F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BD89B-7879-4EF5-A5E0-4C6E405F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D38CA-114F-42E5-9E63-D2B400F3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66DE-9F8E-4E6D-BB0B-BD6153FE79A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67B8-D83C-4D91-B7EB-19729FD8E1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80A8-DC68-4650-8AA6-0D429E2A00D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2012-42AB-489E-B666-25E11A2B3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3DE5-ECD4-4B44-A395-22A670E3E62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51CB-5EC2-4F0A-8A9F-F6E1C87F6ED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799D-AF5C-4EBB-9F39-FB5ECA74E14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3403-DFF4-4824-A9D7-7FBB097B2F5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5C5A-E629-4D2D-8A40-13C3FFFDFAC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58D4-E3D1-47C3-8789-D7D4DDD3719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1FC1-AD2C-4506-9DD8-8FFEB94488E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A21D-7757-4F80-A84C-0046C5DFF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BFE5-1D00-4BD6-9865-A49B4C20FBC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2F66-780E-4A75-9C32-3EF25C6C3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7F3B-EFE0-4C1D-B6EE-81361404420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3F85-EA46-4B00-8F88-EF849CEBED4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E377-54B3-4701-B190-2D601907D6A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F0FE-5A15-4084-AEAB-E86D7D93935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0F03-8844-4BB0-8C72-E76970E5CDE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3F03-92D8-4488-953B-F2532F649B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E95B-DA53-478D-8367-65162F3FDCE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809C-0730-49C5-8AD8-D08B6733FDF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FC76-14F7-48BB-842E-8C7DB064938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CE48-1B18-47BD-B6D5-9DF697FB7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45AC-602C-433C-B15B-3572510E27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B7EC8-D44D-4B3D-B335-CFF3D489D5B4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48D3A-84DB-48D4-97FD-1BCB774795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4AEEF89F-2C96-4FEC-AE47-FDDD1AA64060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F0AA3-577D-4B78-A0CB-F316ECEF279D}" type="slidenum">
              <a:t>3</a:t>
            </a:fld>
          </a:p>
        </p:txBody>
      </p:sp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2909C9-4F8D-4FB4-8F55-7088D58D6C2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C783F4B1-81B2-4543-9A7E-C0668B0B57FF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D6CE9-F424-4383-8480-40281F6FD9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339AAF0B-CFE8-406D-8AE3-5E29F01E8ABE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F6FB4-1E44-4CB1-9872-1CF4CB6B763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8AEB8A50-218B-4E26-8738-6C5F9EDC333E}" type="datetime1">
              <a:rPr lang="en-US"/>
              <a:t>07/29/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