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68648-5C6E-4EEF-B098-89C724FB8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02F70-1587-42AC-82C6-F3125C972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5236E-9EB3-43C9-AD46-56E4966D2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DC3BB-E172-41E1-910E-99BC0A3FB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3D799-7139-43FC-94B5-1249352F1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D0130-AC1B-40E6-BF08-48001912D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3E6E8-B12A-4543-ADB0-E71990186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03EE7-3839-42E6-978D-1CBCFC629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34CAD-A23B-4174-9E39-E1D56A2D2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28C91-951C-4C16-8CC3-C3D4AAA42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03CA3-BF64-4C15-BF09-BF16D6429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99CA8-4978-401B-B7D3-5B485F9F2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92BA8-7102-4486-9E22-F33B0CDB19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Math 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4343400" y="4114800"/>
                <a:ext cx="7714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∈</m:t>
                    </m:r>
                    <m:nary>
                      <m:naryPr>
                        <m:chr m:val="∰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1:09:10Z</dcterms:created>
  <dc:creator>Oliver Craemer</dc:creator>
  <dc:description/>
  <dc:language>en-US</dc:language>
  <cp:lastModifiedBy>Oliver Craemer</cp:lastModifiedBy>
  <dcterms:modified xsi:type="dcterms:W3CDTF">2005-01-06T11:09:21Z</dcterms:modified>
  <cp:revision>1</cp:revision>
  <dc:subject/>
  <dc:title>Math OLE</dc:title>
</cp:coreProperties>
</file>