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009"/>
        <c:axId val="15944105"/>
      </c:barChart>
      <c:catAx>
        <c:axId val="3791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4105"/>
        <c:crosses val="autoZero"/>
        <c:auto val="1"/>
        <c:lblAlgn val="ctr"/>
        <c:lblOffset val="100"/>
        <c:noMultiLvlLbl val="0"/>
      </c:catAx>
      <c:valAx>
        <c:axId val="15944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269-E59D-4344-965A-46597B6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B16-6C37-4321-8D99-2426B58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38D-48E1-42FF-95E7-A169FEC6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9AF-3FEB-49BC-AC8B-3058DC70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A50-9847-40D9-82E3-831CA40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9DF-D5E4-4DCB-BFAA-1D3682D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7C3-44D6-466C-8B6B-B600F10E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465-65B4-4E94-86EC-BD115AD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BD3-5670-4B11-A99F-EA963AA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F31-1B26-40C8-BFB5-0E1A867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6B8-A06F-430E-8671-CE1A5CD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5C7-7EDA-494C-9A63-04DF3B40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493AB-0061-447A-8C24-A8BA9D0653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