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58800"/>
        <c:axId val="2008355"/>
      </c:barChart>
      <c:catAx>
        <c:axId val="11058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8355"/>
        <c:crosses val="autoZero"/>
        <c:auto val="1"/>
        <c:lblAlgn val="ctr"/>
        <c:lblOffset val="100"/>
        <c:noMultiLvlLbl val="0"/>
      </c:catAx>
      <c:valAx>
        <c:axId val="2008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58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A35-BCF0-413C-9F03-25DA8E76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D9E-BB1E-41BC-9A67-1E9C3A47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5B9-5F2D-4856-9149-FBC86049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F8D-D0E2-4A10-AA67-89F25181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F2A-2A29-46CD-9D30-8B078A05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70B-28CF-4594-AEA4-3A85C142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21B-8E46-4014-835A-C829047D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459-F7CF-4071-B819-5BDE9950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264-6440-4D5A-BAB1-639D055E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8C2-D581-4061-A388-ADA3EAFE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AA6-F4C3-4325-BE16-580EFF4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032-AB8D-4644-8F99-598247F0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0E3C1-CEA6-464E-B950-ABCC166F78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