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22445"/>
        <c:axId val="90558017"/>
      </c:barChart>
      <c:catAx>
        <c:axId val="65322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8017"/>
        <c:crosses val="autoZero"/>
        <c:auto val="1"/>
        <c:lblAlgn val="ctr"/>
        <c:lblOffset val="100"/>
        <c:noMultiLvlLbl val="0"/>
      </c:catAx>
      <c:valAx>
        <c:axId val="90558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22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B02-A9A8-4DDB-94AB-999673C2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74D-246D-41D0-A2D2-C2DBF0F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787-B7D5-4B4D-95DF-78B0C3C9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DEA-2605-48F7-9B3F-164EB753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F18-071C-4B7C-8544-EABA110F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929-EB7D-452D-AF26-2F4F79A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9DD-B11A-4017-A268-9A5B643E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044-F8E2-49F2-99D1-62F49D3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C0B-1620-482E-8C03-67BAF12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F0E-C302-4F92-828B-A8AF85D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AC6-2CAF-4761-9964-CBB4F306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EE7-61BD-403A-AF6B-715EA07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0FFF8-680A-41F4-B3DA-29327050FE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