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44174"/>
        <c:axId val="10029316"/>
      </c:barChart>
      <c:catAx>
        <c:axId val="57044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29316"/>
        <c:crosses val="autoZero"/>
        <c:auto val="1"/>
        <c:lblAlgn val="ctr"/>
        <c:lblOffset val="100"/>
        <c:noMultiLvlLbl val="0"/>
      </c:catAx>
      <c:valAx>
        <c:axId val="10029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44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ADA-88B3-4B98-B62F-0910DF4A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958-0B7B-49E7-B021-0C99433E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F5D-EE2F-4955-99D4-5F7A00E6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532-0EBE-4A4D-9CF6-FA2FD1F4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24A-FD41-47E5-BAB0-334EADC7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B3A-DA66-4413-9EEB-E6906E44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E2F-27CE-45BF-83E0-730C94A1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ECE-726D-4A31-BDC7-37B01F06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C54-6002-406C-B345-1942EF3F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4F1-6D22-4FD3-9CEA-A6A06ED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E99-5F11-4750-800B-BAD87F5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C8F-E580-40D3-8CA0-BD24A69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EE4A9-08E6-4932-88D4-8E850C3F34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