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19180"/>
        <c:axId val="5085035"/>
      </c:barChart>
      <c:catAx>
        <c:axId val="80219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5035"/>
        <c:crosses val="autoZero"/>
        <c:auto val="1"/>
        <c:lblAlgn val="ctr"/>
        <c:lblOffset val="100"/>
        <c:noMultiLvlLbl val="0"/>
      </c:catAx>
      <c:valAx>
        <c:axId val="5085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19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8A59-536D-42E3-99A1-C2DB5525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BEF-2552-4308-B558-1BD420F3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EDEE-967E-460F-8196-A339245B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1C5-7F81-4748-9CB6-266A6313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1E4-8E42-4F8E-8C81-FFC34295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9A47-AECA-4799-9CDA-F3267E09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26E-B7D7-4EDD-8141-9EBBCF51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6E1-E408-4EED-B36F-32E04D12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81F-868C-4448-A4C0-28969F6F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927-7A30-42C1-BF5C-AAE1667B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CB8B-FDEB-4726-BACE-07154785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9C80-FED2-4F7C-AE93-E585FE70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FCA92-EFA6-4770-84AE-0DE7BD992A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