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82872"/>
        <c:axId val="56310286"/>
      </c:barChart>
      <c:catAx>
        <c:axId val="837828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10286"/>
        <c:crosses val="autoZero"/>
        <c:auto val="1"/>
        <c:lblAlgn val="ctr"/>
        <c:lblOffset val="100"/>
        <c:noMultiLvlLbl val="0"/>
      </c:catAx>
      <c:valAx>
        <c:axId val="563102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828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E03E-9282-46DC-B83F-719D58A8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94AB-FDA9-465D-AED1-C9BBC80E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B229-818C-49AC-995A-77B5C1CB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1D50-C45F-472B-A915-74974705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4C02-9401-436E-89CA-4AF4C1F8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0264-ADF8-489C-B57D-8336B188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2A89-DB20-47CC-BB3D-AAF5286A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03BA-52CC-4263-914F-95F5A849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70A7-9865-482F-A815-A7456E78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400D-A07B-407D-A330-57591943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6891-A400-4AAC-83E3-FC412534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3BF5-F95C-496E-A423-78BB6C35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92137-E0EB-43B1-A7A6-8DCA4C8C47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