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83845"/>
        <c:axId val="99446033"/>
      </c:barChart>
      <c:catAx>
        <c:axId val="37283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46033"/>
        <c:crosses val="autoZero"/>
        <c:auto val="1"/>
        <c:lblAlgn val="ctr"/>
        <c:lblOffset val="100"/>
        <c:noMultiLvlLbl val="0"/>
      </c:catAx>
      <c:valAx>
        <c:axId val="99446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3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C99-3D78-45F5-BCCF-7E85DCF3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4EC-A3D2-4321-BE0F-1C597714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9EE-8E44-4E52-A99D-01A38BC1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C7C-0ACA-435B-B52C-74365D7E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289-E03E-42B5-A2A8-E9681CFF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78C-43A9-4DEB-A518-1170A33E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A21-E20A-452D-B779-E9436DBE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C61-A178-4579-9B96-78894A00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1B3-8D51-4D7F-921E-AEB5577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D8C-2B95-4AC2-B22A-14FA6910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0A6-4084-4DEF-A064-D5347C79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4A4-B16E-48F3-AB48-74013E99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4F37A-E327-4B7A-AC17-0656E4A780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