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14630"/>
        <c:axId val="40549674"/>
      </c:barChart>
      <c:catAx>
        <c:axId val="85514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9674"/>
        <c:crosses val="autoZero"/>
        <c:auto val="1"/>
        <c:lblAlgn val="ctr"/>
        <c:lblOffset val="100"/>
        <c:noMultiLvlLbl val="0"/>
      </c:catAx>
      <c:valAx>
        <c:axId val="40549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4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B09-D2A9-4B19-842A-F1319D7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E4C-FFA2-4DA3-A706-E50CEE8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9D3-EB6B-4AD0-A9EC-9C162130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EDF-D1BC-4847-B15A-0FCA82B6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B0D-1008-43B3-9590-EF428C9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192-6B07-4EC0-AF53-14F45ABA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55B-44F1-40E8-82D6-9B7B751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F1B-7A69-4C25-A711-66854A43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401-E3A3-4249-B8C2-7A73DFF6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701-4516-46C7-B8A8-895CAB0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162-6744-4F86-99CD-9A1BC22B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DE6-2790-45BA-BF0F-765E9843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81B14-6ECA-4758-A952-9B7347482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