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81588"/>
        <c:axId val="69294005"/>
      </c:barChart>
      <c:catAx>
        <c:axId val="22781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94005"/>
        <c:crosses val="autoZero"/>
        <c:auto val="1"/>
        <c:lblAlgn val="ctr"/>
        <c:lblOffset val="100"/>
        <c:noMultiLvlLbl val="0"/>
      </c:catAx>
      <c:valAx>
        <c:axId val="69294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1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B43-E0CA-42E3-B96E-9EC8BE8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622-01A3-4EFF-9E62-FC561B3C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D43-45BA-40FC-BA9F-0BF0CD9C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753-4916-491E-B676-9B1E8974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818-359D-4A1C-AA46-902D50F0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622-36AF-47CC-A61F-0A0EB433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14C-9E8E-4FB3-83FC-5CDF09D6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E05-7456-4A29-ADD5-5E390C9E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36C-A252-452B-9472-736B980E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271-7E48-4221-B489-6B699F1E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98D-138A-491F-BDBA-EC9EF2F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D76-FB77-4AD6-BAFC-0781385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7565B-8CA8-47A4-896C-916D09D7FE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