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8514"/>
        <c:axId val="55966005"/>
      </c:barChart>
      <c:catAx>
        <c:axId val="25288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66005"/>
        <c:crosses val="autoZero"/>
        <c:auto val="1"/>
        <c:lblAlgn val="ctr"/>
        <c:lblOffset val="100"/>
        <c:noMultiLvlLbl val="0"/>
      </c:catAx>
      <c:valAx>
        <c:axId val="55966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8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89B-0D9C-4DA2-9E06-316F57B5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5CE-8C10-4ECE-90C6-3BBDA1CA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7AD-BAD5-4CE3-A679-659B4BC9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659-9212-4FE8-BE43-E9E02D36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C1F-6F62-4D9A-A5CE-14EDF18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1A5-ACF6-4CA2-9B78-4683D8F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7F7-9698-4216-8ACF-6A9FA10F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0D6-93C7-42B6-8504-4309C91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8D4-07CC-4D85-8120-60D2C46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C99-FA49-4B72-BB00-8005A15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584-47A1-4527-AFF5-6356813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B96-36EB-4D61-A0F6-B1E2BC8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446D1-45D2-4498-9136-4EBED4771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