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67210"/>
        <c:axId val="96598419"/>
      </c:barChart>
      <c:catAx>
        <c:axId val="53467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98419"/>
        <c:crosses val="autoZero"/>
        <c:auto val="1"/>
        <c:lblAlgn val="ctr"/>
        <c:lblOffset val="100"/>
        <c:noMultiLvlLbl val="0"/>
      </c:catAx>
      <c:valAx>
        <c:axId val="96598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67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931B-E166-4458-9A75-7DB7675F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637-6907-4559-83A6-D8B2D6D0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6DF-1A80-40D6-9DD9-56B96322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FDD4-A48F-4128-863A-BD4C879D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0A3C-31AB-4472-BB36-76870F3E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43D-FC04-4484-BB25-8E5819DF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DEFC-8609-4224-A1ED-C4AB2E2A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25A-B34F-4B7E-A28E-1E2E8225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1C2B-2C44-47A9-A17D-594AE850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1502-7BF1-4334-B056-D26EFD21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430F-9CA0-4079-9BD1-07463F13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9BC8-AE4A-4C18-AE06-3998645B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270B3-809D-4D7A-8613-42B25FD374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