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89852"/>
        <c:axId val="98854621"/>
      </c:barChart>
      <c:catAx>
        <c:axId val="873898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54621"/>
        <c:crosses val="autoZero"/>
        <c:auto val="1"/>
        <c:lblAlgn val="ctr"/>
        <c:lblOffset val="100"/>
        <c:noMultiLvlLbl val="0"/>
      </c:catAx>
      <c:valAx>
        <c:axId val="988546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898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F3D-BE5E-4F03-AFBA-D2191DE4B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F42-E67F-4DBF-9592-28119C35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B7D-E871-4BD3-A811-A70C1748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BC5D-8E91-4A72-842D-3C6B50C0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7DC9-EBC4-42A1-9B01-EF4DAFD1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463E-9715-4239-9613-0FB666AC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138-E2D2-45EF-AD3F-81D5E20A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1EE8-735E-4116-B4ED-6615B4BA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0974-9468-4C65-ACB4-031CD899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97D-C328-4242-9BFF-A9971D91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0BA-4656-4909-9AD0-20455736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583-AE26-4209-8A00-95B001AC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82F59-F55D-49D9-8D34-4BC0BC34D5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