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47124"/>
        <c:axId val="49018276"/>
      </c:barChart>
      <c:catAx>
        <c:axId val="50547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18276"/>
        <c:crosses val="autoZero"/>
        <c:auto val="1"/>
        <c:lblAlgn val="ctr"/>
        <c:lblOffset val="100"/>
        <c:noMultiLvlLbl val="0"/>
      </c:catAx>
      <c:valAx>
        <c:axId val="49018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47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2B6-2CA7-4315-A0D3-1722912F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085-5A22-423A-9EDC-C4FF6452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119-3E08-45F8-8C20-28850607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D6A-B41C-478A-935E-6124BCC3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439-E15B-4D8B-91EC-113195BB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AFB-B125-49F6-B5A3-E4C7DF7F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5E5-078D-4697-95F2-85894E0D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00A-965C-42FC-88D2-4A9E3CEF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6F2-FC53-4095-8DD0-4C719E95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BE5-2ABE-43C2-9363-C12E6676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082-A6BC-49AA-99DA-13CC7C4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4CF-3699-426C-91B6-F3FEBA8D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C87DD-AF3C-478D-970E-190C1E8E1A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