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49E90D-9230-4F22-AC35-A2A2F88362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E3215A-8298-4B13-A1FA-5FC054C372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73DD1D-86B5-496F-884C-E3E0D8CAD9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DA30BE-65DC-4C5E-9E9B-BD052E2235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CAF35A5-2B30-47EA-8064-A30BC36E812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C02791-A530-4438-9EFA-703F360736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1F3C24-6F04-47D1-8460-12B0798E86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C94C1C-5025-420C-AE6B-B2C705B86D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059EC5-2447-40F5-850E-9BF3A0E01C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E1A4C8-E186-42F3-92E8-2805BF1CD9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42C4C0-EA9D-4A69-81E2-01ADEB2D6D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255FE8-C1AC-4CD4-9076-A99E80BFC9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885892-B5FE-4C57-94A2-65A1BA21B0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F385A4-9928-4B05-9391-6F0C1D508F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9EF94F-B6A1-418E-8543-4972AE59C1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5A9D26B-3052-4412-A4B0-9D5645337FC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2DFAB53-EE42-4AB0-BECB-35A8C802D73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CBD6D0-AFE0-4AB8-9608-A35318FD5B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5FBCBE-EC9A-49DC-A5FF-8BDF63E238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F80107-7B3B-42A7-850C-9870101AE1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C4D976-5011-4444-A3DA-28C7A5D0D3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E9996C-4445-4FB6-BE30-4C37FBDC1B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5DE050-5895-4982-931C-59E8A5B162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59B1B4-9ED4-4CBE-A147-7821D2BF8B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AA3060-FB3F-4026-9157-5C5BE7C4BD6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83E056-2183-447E-BD73-CBADE1DB6AD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B26A6BF-8BC8-4FCB-86EE-CE228BCE875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C2F4315-0DC4-4DBE-9CA3-8505EEED62F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2FDAC9-C50B-49AE-A369-E084EC4A3B9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015638-3E65-482F-8929-1DB21DD78C0C}"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3E13F0-69C5-4206-A512-41ADD6E07F77}"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557AA8-6AA8-411A-801F-49FB3E50448B}"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4AD7E9-B9AE-40BA-9951-336645944F18}"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731855-9FC5-46D6-9A25-2FEA02D60088}"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1964D3-BF16-4BE2-A32D-79481DFFFB16}"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4B8756-8700-4D2C-ABA0-1E48EBCAF1EF}"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E90CBB-B0F8-49EE-8A1C-A68442BC6714}"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669201-BFA8-4F17-9612-0DF019C0BC54}"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CCFAC7-4249-40F4-90A3-8BBDB0878C67}"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4DE24D-2319-4070-9451-BDA5B63EE69D}"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53C4EE-7DF1-44E1-9B2B-E726EB99BE56}"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68A139-DA55-42A8-9EF3-C4F69397EF1D}"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DB27DF-62D6-48DD-8498-9BDFDDA878E3}"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ECEDD1-7E17-4E99-AC68-34469F78C571}"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F928B1-05F6-4CA1-839C-AE774A7F5A7F}"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FBCAF2-EFB9-4247-ABA6-3EF0B8955B76}"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19C55F-E342-40AF-89D3-D5EB76FB2D6F}"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39562D-AA9C-4827-A515-6DF4030C59A6}"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BAE9CF-D480-4083-BC8A-5A71D680A0E3}"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FFA3AC-9678-493A-B303-216666E141E0}"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E4E7F2-FF75-4590-ABDF-D3A90B818A88}"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B524FA-C9A9-450A-B23F-38D382D407B1}"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465CEF-5896-4396-9794-4B3CABFDDA24}"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2C85C20-B086-410C-899B-E41045BB4DB6}"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D98A2A-5033-406E-9E65-2C4C18838765}"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96BB34-BAF9-44AF-9829-842062C767DB}"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229973-8CAB-4585-8241-ABFFD54DEE89}"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CD82BA-6BF3-4CF7-B8D6-5EB3B9E6FC62}"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542AD2-B543-4A69-96AF-3CAA8308C3BC}"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B5F1DE-6C1B-43E5-A5EC-ADE236EFA9D8}"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8CBBFB-3817-42B7-9562-DF3392C6A3F5}"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67390E-AE97-4190-B3A6-F208A4E7E3D3}"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7370FF-FD0B-4644-9889-3B17BC7AB765}"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E81934-B09E-48F4-A3AE-567FFC8989FA}"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3D6E86-1754-4371-B00C-B66D99AF4D24}"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3A3B7B-2FD6-4521-AD35-45F2145B90C4}"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EA2463-C4F0-452E-B741-9A083328E6DE}"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862721-5A5B-49C8-8E45-22FEB6A63ECE}"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5132DB-893C-4573-8539-582C0174F93C}"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06D6FB-0DE0-4BCC-A424-6511DEC2F4D5}"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29B39D-D20C-4A21-96EA-3E1408A13C3A}"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2BEAE6-47D0-48A2-A1F4-38DB75C8C4BA}"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4D1065-5AE3-49AF-B452-371A56CA86E2}"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DB4DE2-D5EB-4FD9-AC0F-CD2DA072D642}"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61727B7-12A1-42F6-96F8-EC871A44D8EC}"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CC11C6-FEFC-4670-9297-A05450132B3C}"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3E905D-8361-4F02-8471-5C35FE2DB2E9}"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979BDBD-AC21-44F7-B401-0A11155CC8F0}"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7757CF-017A-4151-9825-32600942C4AC}"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BB86E2-2407-4B2E-8487-931F58684538}"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13F2D0-CD1E-4D5E-B3BF-8D21F12A9257}"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2CD0F6-657F-446C-AB39-CD1FCA028DC2}"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C27A6A-E716-47EF-B064-AB6F072B7539}"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DF33C0-3B44-4D2C-A127-E64A0C35A7FC}"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512802-6C4D-489D-9759-DA97E5CD072D}"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A690955-506A-47D7-AB12-E3886A4CF689}"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BC5934-E022-4FD0-8A8D-C6DC49D8A160}"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E87CC8-4E17-4104-8879-510C99A801E6}"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2B74D2-6B82-47CE-AF02-5B5675852C25}"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D1A39D-96CB-4AEE-A492-2D4558DDABCA}"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71296E-6221-416A-975B-0E36B8DF1344}"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2F456CF-FEC9-46AC-8A22-F1F74F33B655}"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B84638-ADB9-49C5-862F-7F389A54777B}"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96F01B-C7B5-4A28-8164-629BD31B16FC}"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A52267-583E-4155-B81C-F3C1DBAA53AE}"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74E5AD-DFFD-4353-A328-988A34E8DB48}"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0F7E52C-6D50-47D2-98B6-BB6C7E8D006E}"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835588-15CE-49EA-9DDF-09C279B05FBA}"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13582C-31FE-4C7B-9697-6CCD02CF1165}"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3896F6-EEE6-4CE7-85FB-DE93C1F938CF}"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14460D-EDFC-40A1-8350-410850198BEE}"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951674-ADF9-48E7-A225-9BE44B8C79C8}"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9E92DA-E6F4-4722-918D-2CB6D04A2477}"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9744FEE-6D30-4E29-831F-4E60E97ED0B8}"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27768A-0FF8-4ED8-B1D6-CA9CC7B98C3C}"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AA47E9-5F61-4BBA-9E1D-0AC257DB3411}"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A38E8A-DD16-4C2C-BE7F-0256A5B67489}"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4DD75EB-B5CE-4FA2-9240-223568C58495}"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061AE7-B073-4F56-B084-FBB7859E37D8}"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09F9D5C-BCA0-4D3F-81D9-670E10949195}"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E3BCC3-542A-4EEA-89CB-3EE099D427EF}"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D488D9-F7B4-41D6-875A-55C66AE5E6E5}"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8BAA5B-D866-401A-895B-641CFDED0A7F}"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099369-FA79-48C5-BA30-12F0CE712FAB}"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95CC8C-1087-4166-89E8-73F40CA43D90}"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5EB5A6-C004-4A6C-9647-593AD3A3D748}"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34D027-BA44-4F6C-A3A1-76CA2AD9D6E6}"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C64FEE-7C21-45CD-96FC-BF9092D67B6B}"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D36177-AE29-41E0-84FA-688DF9AD5BC2}"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A96B0A-FE03-4E8B-A3AA-5D1A872EB765}"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258888-FF92-4BB6-9DAD-7F4E4B94980D}"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54375A-CE21-428A-BFF9-1E6DA9D74BC2}"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681F49-BACA-44BE-BFBB-E641EF1A494F}"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FD11AC-0C17-45A2-9164-E4D0786BB4CB}"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9FFCE3-0C94-48A7-A3FE-5736CF714626}"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B327E59-DEB5-472B-B838-8338FCBED223}"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20FF3F-594E-487D-AC5A-CCB4E58B652E}"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10757D-0088-49CA-95AB-DF8AC09F8A08}"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24ED5B-D376-448B-8466-00697711D11E}"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718B5A-D663-49EC-BE6B-2CEDC5E1A05D}"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084770-0335-4902-AC2B-04E93E9D6C1F}"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F7AAD0-E826-40C8-9A14-CA4D84805253}"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21148A-02A8-44D4-89A3-A1BC0AB5FE60}"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5744A7-74AC-4299-B3F8-37BCB8BE6D90}"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3A9F05-420F-424E-B320-F030F8C4E65A}"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16DF9B-8D2C-465F-8696-EC3D9AD4D4F6}"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9976D3-FCF4-4AF3-90AD-83062C887DBB}"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1FE322-506B-4E2B-AE63-BFFEA76F46F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F03667-C6EA-403A-BD70-5B04975371C5}"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30C9AF-65BB-4A13-B02A-522528E31B87}"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244C00-3ACC-48A5-BE2F-91CCB4C86FAC}"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496286-A304-4F78-8685-293A36AD147D}"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5C284A-796E-45E6-95DC-94D9C2A4530D}"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FF1D13-3889-4C7E-A30B-C99C65D53E81}"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CE156F-E3C1-45BD-8DE8-12E42CFA1F4C}"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61F013-EF57-4E95-97E0-F7C06C77326A}"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037E4D-6EBE-41D3-B8BB-DAA014478C5D}"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5F9506-4FF4-45BE-B372-51E503521FC8}"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4B51F8-5971-4E96-A653-5A24E75D0F56}"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617F6C-AA3A-4B7F-8B53-F384BB7B844D}"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308F94-88BA-4EA3-8346-DDDA883A5FDB}"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DAA629-C1F1-47BF-BD3D-E1CCB5EC6AAA}"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9BAB55-6B85-442F-B222-16D90CB12B85}"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F0473C3-978B-4DD3-A158-1D2D95A61ED7}"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DE8D06-A388-4725-A0BB-8DC0FBDE661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EC7001-AB1C-4103-B964-D4B5126DE20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F851DC-20FE-4078-8BC7-4672E0869E2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EAF91C-FB26-4DDD-B06F-5A51A0970E7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28EF20-165E-4FA3-BEC4-C8DF5D45C41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9AE300-C35E-466E-A540-2B29CE475C4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C2413CA-035B-43E7-B99C-73B8583D3CF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793491-CD1C-4125-B5CF-666994EE5F4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FC5489-9D29-4A03-9094-CBAB8A14250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E14F70-A345-4924-BD58-2403E872883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5BD39F-7A5F-4A53-AFA6-CF46195D16D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7A7B67-0DF1-44D3-9458-5F6DF11DEB4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F79123-9F44-4A3F-8E27-D966494475A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3A5DD9-9F31-4B8C-B48A-4E84C832D01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6D113E-D4B4-4EFD-BADE-DB04DB7D0BC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0096B4-C8B7-47E3-85ED-D26178A00B0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17C16A-766C-49F6-A0AE-E9697995A7D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EFB550-B99D-4F55-BA95-441E12DD612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7B9BE7-FF28-4F4C-94B1-51345695CA1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0B3092-F1FA-4E75-92FE-A9201B049FF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A4452E-B16F-4E84-9771-B13AA4EAE85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B70FA4-4DE6-4F50-9BD9-9F2B3DC04D5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D9EFBD-E857-44DC-9CB4-4A5FBFC51FF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A197C1-47DF-4DB8-A4D9-695506A0EF7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588552-9D65-4428-994E-1410D54CC77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AA4FF0-A617-4700-B70E-080FC871A5B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0A48AE-6DF1-4E57-94B7-473059D52CD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FAC283-5331-48D3-B144-BD22F6BF49D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3A4406-8BA2-4017-93EF-F8246132947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E426CC-6FFE-41BF-B498-B9BC11363CE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A71C1B-47A0-4B79-80C1-EBD4CB54BA8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7ED346-20E4-49AC-B061-F78743387BE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1E758F-CA80-4C7A-AAC6-A21B1A98DD8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78D614-BB1B-4710-AA2E-51544E2A77D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102912-9005-454B-B66B-CF266635A9B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931301-D6B3-4349-AA3F-74F673E4B70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8265F3-2BDB-4B0F-AD21-848E86A0BE7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AFD74A-028F-4DA2-8910-71E621EEA91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E7B533-E999-4486-903B-DE40132286A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5CD487-F53F-467C-AB4B-FF1D05DE0B0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90F4C9-E563-4540-8AB5-A3FCBD0FD2B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80C37A-8CF0-459D-86A6-4759249B8E7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474374-F826-443F-B22D-2835FEC7211C}"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CF7150-5378-419A-8C6C-04E253A8C85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25D3D2-FF5C-4980-8246-DE337E63CC3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A986AC-75A3-4ECE-84C0-72D7ED4D7D6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2D32F1-0AF9-4D3F-B3E8-A8626420630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CAE4B79-BAAF-4CCD-8113-04F2ECAD2FBE}"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9A3501-1E79-426D-AE38-FDC2C4D9684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F95881-7C46-4238-85DF-8FA038437026}"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C4AB2B-6C08-4548-96B3-CBD110DE0D59}"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4B49CE-9FD2-4F9E-B957-646B65E7B6D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EE2E8E-3BC7-4E99-8A68-ED22EE2329D4}"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E5C19E-B36D-4355-9944-07B9B95BE60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6A4D88-0F19-424A-BA82-21E7625E125C}"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22F949-3B92-476D-87AD-A62F5A8393E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788224B-CC78-4966-954F-FE9D5EED0219}"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6DF1BE-F72D-408A-9318-FF79F104E556}"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A6341F-4065-428A-95AE-8F7C237A9A93}"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463B73-79CF-4311-84E5-4AE3C9A12CE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A476E0-4593-4312-A6FE-44787A0E7FBB}"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976FFE-4D11-4690-98A3-F03904C1C2F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05D44B-0910-4E30-B849-BA448A24D82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97667F-C45A-4748-89EE-A3FAF93664D3}"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48A8AA-9AC8-4F63-80DD-1C9EFA6A32E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C0E2F4-BD24-4C59-8408-6410FA9DB46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6D926C-F9A0-4CB3-804F-4E4772285FA3}"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2127C1-B736-4F4D-AB62-989E1F450177}"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DB92BB-32C6-427C-A696-2171D8B7CBA5}"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744E3D-023E-4F3C-8556-E05A7C97AB6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8A9555-8356-4CC3-BCED-2A3CA8E98955}"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70D397E-A85D-4112-80F4-B768CB9395BD}"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766A50-2741-4BFD-95A0-024B2EF152BE}"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7A8D60-FE81-4D47-A2A3-051C8CA74A27}"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96F840-0D94-4FCD-B8DA-75356EAE027E}"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7EEE57-FDEC-4ECA-89BD-B2FF1C39E62F}"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408807-1B5D-422E-9B16-7A711237A9FF}"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747DDB-BEF6-4277-A1CA-F0148EF00555}"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777ABD-0BDC-4C5E-91B0-12CF502830E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1ACDEB-9C6F-44B8-BD68-DB426AC7DAE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79081E-92A9-4E3A-B0F4-C66CC2CA6148}"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0BA2F3-B809-4073-AB35-53A2964251CE}"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A9A191-443C-49E7-93E9-261338D01B34}"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323267-4FAC-4694-ADA9-18F2B2AB820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70349A-E1BB-4C8D-9ABA-AA82C770208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