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22939"/>
        <c:axId val="6526577"/>
      </c:barChart>
      <c:catAx>
        <c:axId val="716229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6577"/>
        <c:crosses val="autoZero"/>
        <c:auto val="1"/>
        <c:lblAlgn val="ctr"/>
        <c:lblOffset val="100"/>
        <c:noMultiLvlLbl val="0"/>
      </c:catAx>
      <c:valAx>
        <c:axId val="65265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229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74BA-13D9-42EF-B023-1A4E83CA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C9B1-E038-46BB-8C46-FFBDBE97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8D0-C0EE-4A31-81BB-1CF5F5E8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C17-24DA-4BEA-9C30-3187E4FA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16CC-A070-451C-9B08-E5399233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CB38-0BB5-4BA5-8AA4-A23255F3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FF2-1531-48AB-BF07-5C8A3E68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3B7-7250-484B-8FDD-520BAFB1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E9B-FED8-467A-BB67-F21386EF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908C-5140-4607-88A5-44513171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858-FA03-407A-81FC-2A05F44C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455D-76FB-472F-9096-26A075F2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CC688-8298-48ED-8390-514E8289E2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