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99032"/>
        <c:axId val="78639645"/>
      </c:barChart>
      <c:catAx>
        <c:axId val="24499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39645"/>
        <c:crosses val="autoZero"/>
        <c:auto val="1"/>
        <c:lblAlgn val="ctr"/>
        <c:lblOffset val="100"/>
        <c:noMultiLvlLbl val="0"/>
      </c:catAx>
      <c:valAx>
        <c:axId val="78639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99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F2C-785D-4537-9C7B-45DCC693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4AD-D045-493F-8D3D-AFF52780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ECE-C108-47AD-8BA1-5BFC035A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C25-421C-43F6-8C62-2B257F19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FC6-AF0C-4779-B05D-B23D9BA3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E55-6503-4557-8B3F-80340E82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012-AEDA-4CAA-A8C7-8ED4DE75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E7E-2BB8-4C9F-8374-EEA3F352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ADC-BF3E-4830-A62A-954A33CD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E16-75A3-41A2-BD9B-EC295F7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357-235A-4ED6-B754-BA8BAB1D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0C7-AB39-47C1-BD2E-8C7632A1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2EA90-E80D-4EE9-B95C-1566B42500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