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0994"/>
        <c:axId val="34400567"/>
      </c:barChart>
      <c:catAx>
        <c:axId val="3930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0567"/>
        <c:crosses val="autoZero"/>
        <c:auto val="1"/>
        <c:lblAlgn val="ctr"/>
        <c:lblOffset val="100"/>
        <c:noMultiLvlLbl val="0"/>
      </c:catAx>
      <c:valAx>
        <c:axId val="34400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0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42A-07AC-4B95-A05A-5D181909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F7C-FC14-4C60-B1EA-ECCD842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7DB-DF93-40E6-8D5C-D4C78F31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5B8-EA21-44F4-8A5F-0B9479E5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4B-9CBD-4AD8-979D-56B46F2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BA6-B6A1-42C6-951C-8E3E63F9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E84-BB13-4A28-B9DB-7598573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71B-296F-4678-8E9B-57EAE43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71A-EA7A-403D-9E3F-5E8F6F21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C07-EEC1-4AE6-A32E-DCAB6DA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BB4-E6D3-4CF4-8C94-0B4DCBC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31F-2940-4463-B7B8-041EB30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F531C-23BF-4EA2-BF8D-3FC99BAB7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