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50347"/>
        <c:axId val="55813295"/>
      </c:barChart>
      <c:catAx>
        <c:axId val="80750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3295"/>
        <c:crosses val="autoZero"/>
        <c:auto val="1"/>
        <c:lblAlgn val="ctr"/>
        <c:lblOffset val="100"/>
        <c:noMultiLvlLbl val="0"/>
      </c:catAx>
      <c:valAx>
        <c:axId val="55813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0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4CA-EC80-4727-8143-264F3890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748-2714-4B52-94BD-7012623D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86B-7CBA-424B-9151-2C7C88F5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EAF-B881-4511-835E-D50C5C34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5F7-DE5D-4801-9254-10711BC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219-2534-4E2B-B933-FFC7ABA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858-8F5C-415A-9E4B-86F5FBB6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C2C-6CEF-40F3-989B-D3921D38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258-E445-4E57-B8DF-5A2E93C0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736-64A8-4066-861A-D081895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8BE-5CD1-4799-9CE3-2F00827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A2A-4503-44CF-B421-8D63CE9B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BD3C8-48DC-4341-B8DC-7B5DC73F2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