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86114"/>
        <c:axId val="97566783"/>
      </c:barChart>
      <c:catAx>
        <c:axId val="81986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66783"/>
        <c:crosses val="autoZero"/>
        <c:auto val="1"/>
        <c:lblAlgn val="ctr"/>
        <c:lblOffset val="100"/>
        <c:noMultiLvlLbl val="0"/>
      </c:catAx>
      <c:valAx>
        <c:axId val="97566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86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416-2A6E-4009-B7A3-5488A994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DAB-2A0A-4640-B944-401CFBDC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0B7-9D9C-447D-93F3-C308BA4F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73C-B057-429B-B788-FEFDFBED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5C93-CFDC-4BBA-A86C-D2676EB3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9180-284B-4915-9397-7A1EC50D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0F8-271C-4314-B928-B246DE8F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507-BC72-4D95-9217-E7643F0F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696-05DF-4D93-B050-A540B1D0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DDA-A926-485A-82E0-3252E06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55F-1764-4AC8-BF9E-4D4A11DB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ECA-BBEC-4AAD-AF4D-8825065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A1254-FF63-46D4-8FD2-C4BD782073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