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87227"/>
        <c:axId val="98506376"/>
      </c:barChart>
      <c:catAx>
        <c:axId val="58087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6376"/>
        <c:crosses val="autoZero"/>
        <c:auto val="1"/>
        <c:lblAlgn val="ctr"/>
        <c:lblOffset val="100"/>
        <c:noMultiLvlLbl val="0"/>
      </c:catAx>
      <c:valAx>
        <c:axId val="98506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87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0EC-DEA2-438D-B9AF-5E0164C6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2C9-FCC9-474E-83D5-BDDC606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5EA-8F0C-4704-8C57-4AFE400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E13-B2D5-4C73-8987-836B1DC7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421-D4F3-4E87-97BD-7F2DD2E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A8E-462A-4F98-918F-4B6FC4D7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028-E2AF-4F15-8E01-CD6CF19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12F-5E9C-4375-A2EE-09C30F71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C61-CF9A-434D-A7CD-17029712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CAF-341A-474F-AD46-D190C87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5F8-D113-427B-B3C2-5843C9B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03B-2E83-4AE5-A19E-5E66814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D311-6B11-4C4B-A81A-98ABAF680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