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7027"/>
        <c:axId val="62264260"/>
      </c:barChart>
      <c:catAx>
        <c:axId val="75017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64260"/>
        <c:crosses val="autoZero"/>
        <c:auto val="1"/>
        <c:lblAlgn val="ctr"/>
        <c:lblOffset val="100"/>
        <c:noMultiLvlLbl val="0"/>
      </c:catAx>
      <c:valAx>
        <c:axId val="62264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7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492-196F-43E5-9A74-A0E6879D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87D-9ED4-4D1F-8DC8-40083A4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B4D-E605-4B37-8B16-9010AE2B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71C-8BFC-4BFC-A01E-19ECF7CB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CD4-02CF-4DC8-A4B7-CD6EE01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25D-EA6E-4E75-BBDD-6890B86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149-2E9B-4B90-8404-8F4F16A6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B40-B2F6-4564-8BA0-01ABE97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AA3-3157-47FF-81CE-EC6FAA91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D40-FB64-4388-B19C-0D1C15C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C0D-56DC-4CEA-BF87-4DB8F90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D39-3DE1-4626-BB6E-DF9207F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387F-9327-4749-AA0F-60C86E70F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