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521083"/>
        <c:axId val="1111676"/>
      </c:barChart>
      <c:catAx>
        <c:axId val="415210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11676"/>
        <c:crosses val="autoZero"/>
        <c:auto val="1"/>
        <c:lblAlgn val="ctr"/>
        <c:lblOffset val="100"/>
        <c:noMultiLvlLbl val="0"/>
      </c:catAx>
      <c:valAx>
        <c:axId val="11116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5210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4105-2D96-4614-8F29-7C7580123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D848-2D5C-47A8-A7B2-EFD29AE5A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B0B0-3DF9-4A3C-A426-F7953CCD3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CA6C-7B35-43EC-BED0-3950406DB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E9EF-F3A7-4261-A7DF-711FE5D95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4463-64B1-4D77-B591-6D7BE362E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99B9-73F8-4ACE-AFA3-DDF5BA327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00E8-AD02-4CF9-84B3-1DCE89D57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2D8E-8E19-4BFF-AEDA-E895FCFEB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7D01-67B4-4B1D-82B7-E179F673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CA0A-35AD-46CE-84B2-AC8CB4639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87A1-70BD-445F-8ABD-6AAC766B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315E5B-FCED-42EA-9231-2F8D8CDFAB0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