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431453"/>
        <c:axId val="4248200"/>
      </c:barChart>
      <c:catAx>
        <c:axId val="143145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48200"/>
        <c:crosses val="autoZero"/>
        <c:auto val="1"/>
        <c:lblAlgn val="ctr"/>
        <c:lblOffset val="100"/>
        <c:noMultiLvlLbl val="0"/>
      </c:catAx>
      <c:valAx>
        <c:axId val="424820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3145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61554-6DA3-44C8-A22B-291D00ECC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CADD9-C40A-4F90-9B36-8E1E83B8C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C7361-AF8B-4772-AEF9-B6DCAE0F4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BE100-62CC-4220-B4CE-320742902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3B470-EC85-4727-B748-EC59844F7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83A8A-1CAA-4B91-980E-01E5C11E2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03E9F-2C14-4C0C-9996-B5E7A309E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A7EFC-8B35-4C11-A009-5E4136E52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1F953-751E-4EE1-B0C7-725213520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322A2-147A-43FD-A15F-E26DCA779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0AA74-AAFE-4A54-857A-9DBFDDB4B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3AA73-0C93-4B36-8E66-2D1C5787F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78D276-5E5B-4090-B5D0-1805156FFBE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