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86566"/>
        <c:axId val="69689582"/>
      </c:barChart>
      <c:catAx>
        <c:axId val="10586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89582"/>
        <c:crosses val="autoZero"/>
        <c:auto val="1"/>
        <c:lblAlgn val="ctr"/>
        <c:lblOffset val="100"/>
        <c:noMultiLvlLbl val="0"/>
      </c:catAx>
      <c:valAx>
        <c:axId val="69689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86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D5C-E697-40A9-BD0D-34D0E367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1F3-9407-4D3A-8CFE-08FB8225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C52-1AA1-4B76-99CB-996E4FE5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A82-480D-4BA8-B688-CC39D961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713-F962-4132-A070-FEF5EA0C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8C1-FF94-4931-B30D-A19CF5AA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ABD-E194-4CCB-A307-03873C61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31F-345E-4A4B-96C5-B4C575C1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E55-8CF9-420F-8C86-FCFD8652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B56-0D01-4752-BF85-70E6A5B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DE5-269B-43F7-9A53-C8002270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3C3-A996-4C6D-A97E-70E2A609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1E829-6988-4745-922B-BEA87E7DC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