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941927"/>
        <c:axId val="65315773"/>
      </c:barChart>
      <c:catAx>
        <c:axId val="499419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15773"/>
        <c:crosses val="autoZero"/>
        <c:auto val="1"/>
        <c:lblAlgn val="ctr"/>
        <c:lblOffset val="100"/>
        <c:noMultiLvlLbl val="0"/>
      </c:catAx>
      <c:valAx>
        <c:axId val="65315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419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5ED4-1E75-46BD-8DAD-4EE18AD8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DEC0-420E-4829-8D4C-A78D031F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A1B-66B1-41F9-A5C5-4747EFAD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AB79-43AE-4353-A7E5-E399CC51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FA4A-459F-461E-A70E-50F6C19D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7522-E49B-486E-A03E-C240B353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50A7-6DC8-48BE-B837-C297CFD5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692-1156-419E-8A5B-7CD97D84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49B1-756C-40DF-88F8-B5B16195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A44-87F6-4AF5-83BF-46C837EC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5294-2F20-4660-A6E0-B9A936A8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0359-6113-4E1A-83B7-3A14910F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71E20-0049-4C35-9355-E9AA6030D1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