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66895"/>
        <c:axId val="18404165"/>
      </c:barChart>
      <c:catAx>
        <c:axId val="45266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4165"/>
        <c:crosses val="autoZero"/>
        <c:auto val="1"/>
        <c:lblAlgn val="ctr"/>
        <c:lblOffset val="100"/>
        <c:noMultiLvlLbl val="0"/>
      </c:catAx>
      <c:valAx>
        <c:axId val="18404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6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16D-FDBF-4A2F-ABD6-12EB7D39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641-E919-4BBC-B21D-D481D5D9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DE5-2D2A-4C08-A52C-F0FE9F86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F48-2BF8-4169-A83A-5B2436CD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161-86A0-4372-882B-F514B40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190-0028-4543-9776-0059CFD4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68A-882A-4817-9B2E-DCD99A3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A4C-CBF2-4326-848E-3247848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404-F4E8-404A-BAC5-C4ACA36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3B0-19C3-4A3F-88E9-43BF24C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F9C-7297-4B12-9C07-3BEB782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24F-E03D-4B10-9534-33676F7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5DCC-35C2-4D61-A78D-73B1B9E944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