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92638"/>
        <c:axId val="93473010"/>
      </c:barChart>
      <c:catAx>
        <c:axId val="81092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73010"/>
        <c:crosses val="autoZero"/>
        <c:auto val="1"/>
        <c:lblAlgn val="ctr"/>
        <c:lblOffset val="100"/>
        <c:noMultiLvlLbl val="0"/>
      </c:catAx>
      <c:valAx>
        <c:axId val="93473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92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BED-BBAD-4962-84B0-AF555501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C94-635E-4C54-BBF6-28586E4D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87E-7B96-417A-B20B-E6957C7A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ED9-6F9F-4EC3-913E-FAA96B6D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A99-8DA6-4604-8D8B-720C5BF2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745-33BF-4D35-90E5-AEF7AE44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B87-8A42-4A7E-A7BA-EB2B5F7D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C68-5020-45A1-A4EA-C7D0E285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C93-4B38-4C0A-956C-956D2F56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841-EB7E-4816-B509-89B63EA9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E8A-2908-4616-B09A-D1394EF1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274-AE69-4451-B80B-4424E8B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A0C13-78C8-40CF-9942-4030DEF3D9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