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47300"/>
        <c:axId val="25341403"/>
      </c:barChart>
      <c:catAx>
        <c:axId val="31847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1403"/>
        <c:crosses val="autoZero"/>
        <c:auto val="1"/>
        <c:lblAlgn val="ctr"/>
        <c:lblOffset val="100"/>
        <c:noMultiLvlLbl val="0"/>
      </c:catAx>
      <c:valAx>
        <c:axId val="25341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47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6DA-3A2C-41CD-9062-442DFE2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14D-1328-495D-9D10-BCDDB5E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A69-E44B-46B2-A54D-EDEEDC12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3B5-09AC-4CCA-A391-449B3785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042-FF63-4026-A4C4-2717F75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A39-3AE4-424E-87FD-4B102E3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5DE-EDDD-437A-A394-5FA375C0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09C-E28D-494A-90ED-D6DB4274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7CF-1E11-47A8-A50C-50E8A27F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AB2-C252-4EF9-A9F1-10F2FCD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D43-D7AF-4A76-A9E0-2FD4A9A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2DA-EA32-4F48-86F3-F38B2FF8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89C2-A843-4DB2-9E52-1922198905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