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629903"/>
        <c:axId val="71273694"/>
      </c:barChart>
      <c:catAx>
        <c:axId val="53629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73694"/>
        <c:crosses val="autoZero"/>
        <c:auto val="1"/>
        <c:lblAlgn val="ctr"/>
        <c:lblOffset val="100"/>
        <c:noMultiLvlLbl val="0"/>
      </c:catAx>
      <c:valAx>
        <c:axId val="71273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29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B63-400F-42E2-ABEC-C02AAFF09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D0A7-BE26-4D67-9100-C75596FE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3B1E-6BBB-4C3F-86D1-6371BECC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017-AEF6-4086-AA42-21187DA6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E9D-88E4-4EAF-95E7-59A17FC4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397-05BA-4D9A-A8FB-8909FB50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B7D-2C24-4B92-B661-5EC2E4E1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1E4-0F27-48CB-96DD-C4C50C42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027-84C0-483F-8A63-8009CB52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79F-2B73-417C-8A2F-45DA155E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939-245B-4D81-A322-EE2CD846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3B8-0007-4764-A186-84375454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1FA65-51E8-4193-9EB9-338577441A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