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67381"/>
        <c:axId val="95032504"/>
      </c:barChart>
      <c:catAx>
        <c:axId val="46967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32504"/>
        <c:crosses val="autoZero"/>
        <c:auto val="1"/>
        <c:lblAlgn val="ctr"/>
        <c:lblOffset val="100"/>
        <c:noMultiLvlLbl val="0"/>
      </c:catAx>
      <c:valAx>
        <c:axId val="95032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67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925-344A-4D40-9F24-39D9768C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422-19AE-4220-8140-B567307D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27C-B266-4C07-A7D6-1CF6AC78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C88-E5B3-4A2B-8141-49E31A38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A27-DF60-454E-B39D-86492A14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9AD-E95B-4B6F-83D7-E3F8DB38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CCF-124C-49B3-810F-AC7CBF58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B6A-1B6F-40A6-9271-4C00D6BA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E35-9BCE-450D-8D2C-C57C480D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A5A-58A6-4121-BECD-E48C332E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8FC-2C3C-4DB7-B171-C444D49C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C27-9436-4371-BDC9-E08F2168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7FC79-D076-400B-9140-467D169590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