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17169"/>
        <c:axId val="6834013"/>
      </c:barChart>
      <c:catAx>
        <c:axId val="46417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4013"/>
        <c:crosses val="autoZero"/>
        <c:auto val="1"/>
        <c:lblAlgn val="ctr"/>
        <c:lblOffset val="100"/>
        <c:noMultiLvlLbl val="0"/>
      </c:catAx>
      <c:valAx>
        <c:axId val="6834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17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D0F-9038-4949-AD3A-72DEE815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FA9-7312-44FA-BAF2-FD5F6A7F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E49-DB2F-47D7-A32B-D742D5F1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25D-E4CB-4EC6-8493-B540DA19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F43-8575-4AE7-9C4C-CD66737E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6F5-98E5-4F56-847C-878CE41D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1F2-E000-49AC-939B-4A3BFAC8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3A5-01BF-4A7A-8BB5-4D6E3790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F6E-AF25-4E17-937A-B0D8AEDB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149-E0DE-4B20-AB41-C67E6DAC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2AB-48D8-42D7-B0F1-BDD7C4C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309-11D2-4C46-BF0C-0C1ECCA2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B43E8-8658-46EE-A3F9-E5C760355E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