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0911B-18AA-434C-BF38-0993EBD688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0BDAA-B898-40A0-B847-9AF8322580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31EDD-B74D-4AB2-A998-4FB118D8D0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0472F-92FD-4F37-B9FB-772566A7F6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F842B-9247-40FD-9F98-8996537B1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87A81-A50F-4810-A9D5-B0392E55E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4AB78-FC56-4F83-BB7C-ECB322D86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1FFB-ED25-4F2D-83BC-96C54F0AA4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63BF0-D1D1-4030-84D2-6620005E0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C19C7-7F9E-49FD-B4E6-B336DC15C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80EBA-82AF-45C5-8D2C-68D881DE68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F92E1-0414-4793-9191-0A7245ABC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8CA76F-9136-44E3-8B76-494D311700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640680" y="158112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rilinos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-2160" y="2743200"/>
            <a:ext cx="196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INUX_SERIAL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979280" y="2743200"/>
            <a:ext cx="1826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OLARIS_MPI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3885120" y="2743200"/>
            <a:ext cx="1415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334120" y="2743200"/>
            <a:ext cx="3797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ackages/          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6" name=""/>
          <p:cNvCxnSpPr>
            <a:stCxn id="41" idx="2"/>
            <a:endCxn id="42" idx="0"/>
          </p:cNvCxnSpPr>
          <p:nvPr/>
        </p:nvCxnSpPr>
        <p:spPr>
          <a:xfrm flipH="1">
            <a:off x="979560" y="1949400"/>
            <a:ext cx="336888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7" name=""/>
          <p:cNvCxnSpPr>
            <a:stCxn id="41" idx="2"/>
            <a:endCxn id="43" idx="0"/>
          </p:cNvCxnSpPr>
          <p:nvPr/>
        </p:nvCxnSpPr>
        <p:spPr>
          <a:xfrm flipH="1">
            <a:off x="2892600" y="1949400"/>
            <a:ext cx="145584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8" name=""/>
          <p:cNvCxnSpPr>
            <a:stCxn id="41" idx="2"/>
            <a:endCxn id="44" idx="0"/>
          </p:cNvCxnSpPr>
          <p:nvPr/>
        </p:nvCxnSpPr>
        <p:spPr>
          <a:xfrm>
            <a:off x="4348080" y="1949400"/>
            <a:ext cx="24480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49" name=""/>
          <p:cNvCxnSpPr>
            <a:stCxn id="41" idx="2"/>
          </p:cNvCxnSpPr>
          <p:nvPr/>
        </p:nvCxnSpPr>
        <p:spPr>
          <a:xfrm>
            <a:off x="4348080" y="1949400"/>
            <a:ext cx="1748160" cy="7178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50" name=""/>
          <p:cNvCxnSpPr>
            <a:stCxn id="41" idx="2"/>
          </p:cNvCxnSpPr>
          <p:nvPr/>
        </p:nvCxnSpPr>
        <p:spPr>
          <a:xfrm>
            <a:off x="4348080" y="1949400"/>
            <a:ext cx="3805920" cy="79416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51" name=""/>
          <p:cNvSpPr/>
          <p:nvPr/>
        </p:nvSpPr>
        <p:spPr>
          <a:xfrm flipV="1">
            <a:off x="152280" y="5485680"/>
            <a:ext cx="3048120" cy="1219320"/>
          </a:xfrm>
          <a:prstGeom prst="wedgeRectCallout">
            <a:avLst>
              <a:gd name="adj1" fmla="val -27763"/>
              <a:gd name="adj2" fmla="val 24518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../config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Linux platform to create Linux serial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flipV="1">
            <a:off x="1600200" y="4037760"/>
            <a:ext cx="2971800" cy="1219320"/>
          </a:xfrm>
          <a:prstGeom prst="wedgeRectCallout">
            <a:avLst>
              <a:gd name="adj1" fmla="val -13143"/>
              <a:gd name="adj2" fmla="val 128513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n this directory execute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./configure --enable-mp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from Solaris platform to create Solaris MPI buil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4267080" y="5791320"/>
            <a:ext cx="2971800" cy="838080"/>
          </a:xfrm>
          <a:prstGeom prst="wedgeRectCallout">
            <a:avLst>
              <a:gd name="adj1" fmla="val -37287"/>
              <a:gd name="adj2" fmla="val 373861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Trilinos configure script that constructs build trees when run on target platform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791320" y="4876920"/>
            <a:ext cx="2971800" cy="838080"/>
          </a:xfrm>
          <a:prstGeom prst="wedgeRectCallout">
            <a:avLst>
              <a:gd name="adj1" fmla="val -44449"/>
              <a:gd name="adj2" fmla="val 269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Location of all Trilinos packages.  Each package directory is self-contained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7086600" y="3505320"/>
            <a:ext cx="2057400" cy="838080"/>
          </a:xfrm>
          <a:prstGeom prst="wedgeRectCallout">
            <a:avLst>
              <a:gd name="adj1" fmla="val 1078"/>
              <a:gd name="adj2" fmla="val 9715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Other Trilinos files and directorie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5181480" y="533160"/>
            <a:ext cx="2438640" cy="380880"/>
          </a:xfrm>
          <a:prstGeom prst="wedgeRectCallout">
            <a:avLst>
              <a:gd name="adj1" fmla="val -87634"/>
              <a:gd name="adj2" fmla="val -225000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Main Trilinos director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4-03T21:44:54Z</dcterms:created>
  <dc:creator>mheroux</dc:creator>
  <dc:description/>
  <dc:language>en-US</dc:language>
  <cp:lastModifiedBy>mheroux</cp:lastModifiedBy>
  <dcterms:modified xsi:type="dcterms:W3CDTF">2003-04-03T21:59:13Z</dcterms:modified>
  <cp:revision>1</cp:revision>
  <dc:subject/>
  <dc:title>PowerPoint Presentation</dc:title>
</cp:coreProperties>
</file>