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931AB-0CDD-439E-AB03-1786377CE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B7B3FB-0E53-4C51-8297-226C9E35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04D8-5212-4289-A7E8-76303DA678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C264C-B4EF-4BB4-B3C7-D5A6246D7F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CDE4-C211-4EA2-84F4-582CB7CC8A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1B564-DBF8-4542-B3A2-03FE25820C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CC9DD-C2AB-438A-945C-7EC2B764D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40645-FAE2-4623-A97E-68A461A58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ADBC46-A0D3-439F-A795-6D606D757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30304-EBF9-4C8F-834C-0E43C54373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063AC-A5DC-43FA-A091-B31DF1B41F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971E80-3DCD-47A6-A1C2-F728DFB56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960D9C-1E4F-4DC8-9421-9B74DA9963E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rilinos Package Dependenc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42" name=""/>
          <p:cNvGraphicFramePr/>
          <p:nvPr/>
        </p:nvGraphicFramePr>
        <p:xfrm>
          <a:off x="152280" y="1447920"/>
          <a:ext cx="8839440" cy="3693960"/>
        </p:xfrm>
        <a:graphic>
          <a:graphicData uri="http://schemas.openxmlformats.org/drawingml/2006/table">
            <a:tbl>
              <a:tblPr/>
              <a:tblGrid>
                <a:gridCol w="982800"/>
                <a:gridCol w="981000"/>
                <a:gridCol w="982800"/>
                <a:gridCol w="982440"/>
                <a:gridCol w="981360"/>
                <a:gridCol w="982440"/>
                <a:gridCol w="982800"/>
                <a:gridCol w="981000"/>
                <a:gridCol w="982800"/>
              </a:tblGrid>
              <a:tr h="39996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Packag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8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Depends On… </a:t>
                      </a:r>
                      <a:r>
                        <a:rPr b="0" lang="en-US" sz="2000" spc="-1" strike="noStrike">
                          <a:solidFill>
                            <a:srgbClr val="00cc99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… 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Euclid Math One"/>
                          <a:ea typeface="Euclid Math One"/>
                        </a:rPr>
                        <a:t></a:t>
                      </a:r>
                      <a:r>
                        <a:rPr b="0" lang="en-US" sz="2000" spc="-1" strike="noStrike">
                          <a:solidFill>
                            <a:srgbClr val="ccff66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3333cc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Can Use In Future…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96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Epetr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ztecOO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0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Komple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Ifpac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2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M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NOX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3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TSF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00cc9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ff6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0000"/>
                          </a:solidFill>
                          <a:latin typeface="Times New Roman"/>
                        </a:rPr>
                        <a:t>Ameso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3333cc"/>
                    </a:solidFill>
                  </a:tcPr>
                </a:tc>
              </a:tr>
            </a:tbl>
          </a:graphicData>
        </a:graphic>
      </p:graphicFrame>
      <p:sp>
        <p:nvSpPr>
          <p:cNvPr id="43" name=""/>
          <p:cNvSpPr/>
          <p:nvPr/>
        </p:nvSpPr>
        <p:spPr>
          <a:xfrm>
            <a:off x="533520" y="182880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73680" y="5486400"/>
            <a:ext cx="6558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ased on this chart: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AztecOO depends on Epetra, but Epetra is independent of AztecO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NOX can use Epetra, but is independent of Epetra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30T20:01:38Z</dcterms:created>
  <dc:creator>mheroux</dc:creator>
  <dc:description/>
  <dc:language>en-US</dc:language>
  <cp:lastModifiedBy>mheroux</cp:lastModifiedBy>
  <dcterms:modified xsi:type="dcterms:W3CDTF">2003-04-04T06:19:42Z</dcterms:modified>
  <cp:revision>1</cp:revision>
  <dc:subject/>
  <dc:title>Trilinos Package Dependencies</dc:title>
</cp:coreProperties>
</file>