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4AF9E-36BB-4E87-ACA6-B08083AC2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22C53-8FEB-4262-8AE7-9C82CCE36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9A7BB-8182-43EC-9B71-A09855935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030CB-9193-4AE6-945B-3854FE11E2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03951-2173-417E-9D33-949E1F4D6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15FA-47BC-4D2F-8A26-BF80BBA043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64AA0-05F5-4A09-87F7-111814BA2A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F47A2-AA69-4029-BE72-D6DE726063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B9EA-4900-4D2A-8B5B-1D9C0D68BE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ED73D-402B-4985-A380-8C654F62D5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926C9-7E1E-4518-9E3C-14D83C76C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156AB-86C9-487D-B479-2CA856856E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BEDA4-03DD-4BEA-A64F-E1971991A73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8600" y="1542960"/>
          <a:ext cx="8686800" cy="3772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8600" y="1542960"/>
                    <a:ext cx="8686800" cy="3772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1T23:35:19Z</dcterms:created>
  <dc:creator>mheroux</dc:creator>
  <dc:description/>
  <dc:language>en-US</dc:language>
  <cp:lastModifiedBy>mheroux</cp:lastModifiedBy>
  <dcterms:modified xsi:type="dcterms:W3CDTF">2003-04-01T23:36:56Z</dcterms:modified>
  <cp:revision>1</cp:revision>
  <dc:subject/>
  <dc:title>PowerPoint Presentation</dc:title>
</cp:coreProperties>
</file>