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157483"/>
        <c:axId val="72948203"/>
      </c:barChart>
      <c:catAx>
        <c:axId val="131574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948203"/>
        <c:crosses val="autoZero"/>
        <c:auto val="1"/>
        <c:lblAlgn val="ctr"/>
        <c:lblOffset val="100"/>
        <c:noMultiLvlLbl val="0"/>
      </c:catAx>
      <c:valAx>
        <c:axId val="729482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1574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8B61-3C52-435B-89BA-7A287A962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4E54-8417-4FB2-B006-5FFFEA1BB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EF98-08D3-4F31-8637-72E7AD797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54C4-CDA6-4885-A72B-EA3E83451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8EE9-DE6C-4944-AC02-7A2A4C2C5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564F-0E5C-4649-9488-21BFCFE3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F070-3199-413B-89E1-AF2C3A50C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F544-FA00-4C5D-AA0E-5A7B157B6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FCE6-4A34-4964-87BD-DAFC49472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D74B-124F-4FE7-86E2-4FEA9491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422E-B9F9-4A79-A271-9FF7A076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AFB7-B369-4171-921D-746D84FA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2D31BE-B7B0-436D-9284-967121FCD89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