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70288"/>
        <c:axId val="93152330"/>
      </c:barChart>
      <c:catAx>
        <c:axId val="68370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52330"/>
        <c:crosses val="autoZero"/>
        <c:auto val="1"/>
        <c:lblAlgn val="ctr"/>
        <c:lblOffset val="100"/>
        <c:noMultiLvlLbl val="0"/>
      </c:catAx>
      <c:valAx>
        <c:axId val="93152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70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4F0-48FF-4E53-9949-4E338623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E1A-1F24-48A6-8978-DDCDDE2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4F7-E7D6-4F68-9415-BAAAA2E1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9E6-A8F3-482A-ABB6-4814C6EA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0AC-24F1-4315-A5D5-8AEC652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932-BE7C-4D54-BC86-6BF0A8B2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D96-1159-4DD2-9B40-E4E6FB12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8C1-AF24-46BF-91AA-D0469351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869-8BE8-429A-B134-C4447AD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52A-9708-42A3-A5D5-16F624A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150-FFD9-4A5B-956D-EDFD122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D3A-610E-4E6A-BC36-312A8F4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C0E3-425A-4500-8A84-8230360D9F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