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1CE3F-E30A-4456-BE1B-3D1E412AD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D4C50-DF9E-417D-82D3-DB4BF3861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2D0C9-C512-4DB9-B954-0BB7120DB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C78BC-DAE7-4E28-B9BB-E4D233CCF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D5EF5-B429-46FD-B88A-DF0021E58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496AE-2650-44A2-8E6D-210772E7A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285DE-A1FB-47EB-B464-5AE48AF44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3B2E1-EC20-401C-A157-779A9A264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16A02-41FC-40C2-B325-84BD8E253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E4766-34A4-484F-A3FB-1EDB49F58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331E4-7BA3-4CDB-BB0A-86878EC0A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28F0A-6638-4A5B-8E87-727159597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5BFB0-EE98-4851-BC41-453D85969388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uturnArrow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-Tur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066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99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124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Strip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899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Notch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lef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hev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rightArrowCallout">
            <a:avLst>
              <a:gd name="adj1" fmla="val 25002"/>
              <a:gd name="adj2" fmla="val 25000"/>
              <a:gd name="adj3" fmla="val 33335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eftArrowCallout">
            <a:avLst>
              <a:gd name="adj1" fmla="val 25002"/>
              <a:gd name="adj2" fmla="val 25000"/>
              <a:gd name="adj3" fmla="val 33335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upArrowCallout">
            <a:avLst>
              <a:gd name="adj1" fmla="val 50007"/>
              <a:gd name="adj2" fmla="val 50003"/>
              <a:gd name="adj3" fmla="val 16667"/>
              <a:gd name="adj4" fmla="val 666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downArrowCallout">
            <a:avLst>
              <a:gd name="adj1" fmla="val 50007"/>
              <a:gd name="adj2" fmla="val 50003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ircular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95280" y="620640"/>
            <a:ext cx="6264360" cy="2952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leftRightArrow">
            <a:avLst>
              <a:gd name="adj1" fmla="val 50000"/>
              <a:gd name="adj2" fmla="val 3981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0:52:08Z</dcterms:created>
  <dc:creator>tb121644</dc:creator>
  <dc:description/>
  <dc:language>en-US</dc:language>
  <cp:lastModifiedBy>tb121644</cp:lastModifiedBy>
  <dcterms:modified xsi:type="dcterms:W3CDTF">2005-05-25T10:52:24Z</dcterms:modified>
  <cp:revision>1</cp:revision>
  <dc:subject/>
  <dc:title>Slide 1</dc:title>
</cp:coreProperties>
</file>