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74324"/>
        <c:axId val="66864504"/>
      </c:barChart>
      <c:catAx>
        <c:axId val="10474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64504"/>
        <c:crosses val="autoZero"/>
        <c:auto val="1"/>
        <c:lblAlgn val="ctr"/>
        <c:lblOffset val="100"/>
        <c:noMultiLvlLbl val="0"/>
      </c:catAx>
      <c:valAx>
        <c:axId val="6686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74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45C-2CC5-4851-BED4-05937A98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2AC-57A5-4A8E-9ED2-EBB38585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603-90E8-41BD-BB3E-C445D801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8FF-E925-49A6-B2EC-3D9D99C4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210-7488-4E6A-B323-DF2FC46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0C2-279B-4934-8DA5-A862414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561-A848-44E2-83F6-04301B50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1CF-5398-4813-9B8E-AF0AC48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00-C602-4A73-828C-4C05406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3B3-C15A-4BD5-A075-8D0804F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A1C-4175-48EE-B5E4-C5736A6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B26-3B02-4FF6-B68A-30C6B9E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23A35-DF71-497E-8CEE-EBEB0E4F5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