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80493"/>
        <c:axId val="66779544"/>
      </c:barChart>
      <c:catAx>
        <c:axId val="20680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79544"/>
        <c:crosses val="autoZero"/>
        <c:auto val="1"/>
        <c:lblAlgn val="ctr"/>
        <c:lblOffset val="100"/>
        <c:noMultiLvlLbl val="0"/>
      </c:catAx>
      <c:valAx>
        <c:axId val="66779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80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6FE-2C80-4BE1-B2FA-50764E9A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1C0-955C-47E6-AAF7-A8597F3B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F7D-F068-4506-A264-D0424B26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A18-98C7-41A2-8CAF-68F5E64E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87F-EC9F-465B-87BA-C9ABEB70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A5B-CE5B-4A99-9C2A-8D99CB8F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625-E0CF-49E5-95F4-810A0FA5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7D4-5462-4B06-9BB0-48A6D034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ABB-7260-4E00-A6E0-03F42969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24E-FAA2-405B-B9D5-790AB68B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266-C124-4A52-A47E-A5FD7865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E26-F21F-49B7-B58D-29EEE86E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282C1-D722-4769-B9A4-D95D55E325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