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35472"/>
        <c:axId val="584967"/>
      </c:barChart>
      <c:catAx>
        <c:axId val="58435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967"/>
        <c:crosses val="autoZero"/>
        <c:auto val="1"/>
        <c:lblAlgn val="ctr"/>
        <c:lblOffset val="100"/>
        <c:noMultiLvlLbl val="0"/>
      </c:catAx>
      <c:valAx>
        <c:axId val="5849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35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A57A-238D-4B7F-97B4-A8626D4C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C235-B8E5-4B7B-A7D7-946CF57B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47A8-2209-4C53-A2E9-1614BCB9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325A-0EB1-4792-ACEF-983F868C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80FB-DA54-4357-A672-FDA47B71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22B8-D95F-453F-BCA2-8B5ADA62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4FB2-E1C4-4655-B1DE-E26DCEEB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7FE-0781-4059-94BE-4EB385BA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0E81-2296-4864-B5F0-99ABA743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D644-BE41-4249-B2E9-705DB40D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2FA8-2705-42BA-9776-565C70CE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3DFA-48AF-4272-85A2-E4B54C49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D4C8E-67FC-4936-85D9-C06B9F893A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