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81791"/>
        <c:axId val="94399679"/>
      </c:barChart>
      <c:catAx>
        <c:axId val="27281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9679"/>
        <c:crosses val="autoZero"/>
        <c:auto val="1"/>
        <c:lblAlgn val="ctr"/>
        <c:lblOffset val="100"/>
        <c:noMultiLvlLbl val="0"/>
      </c:catAx>
      <c:valAx>
        <c:axId val="94399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81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188-CBCC-4ABB-BBAA-35008AC1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23C-6CFD-48C6-904E-7C0E03DE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493-0973-4EBD-A9B0-87AC2307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A2B-9655-482B-A4AF-58556107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875-486B-4DD1-A633-DCA51FAD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D0D-BABB-4FBB-8E63-26FBCC8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A2B-331B-47B0-9977-C2C6B11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B38-3269-464B-8549-15947359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D5A-EF6B-4EE4-A078-EDA070A7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D8B-D232-4FD3-8643-CC3738C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201-6B50-4AD0-987F-DBEA0E5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1E8-5C05-465F-8AAB-1D705EF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60059-A88B-4441-9547-5B11F36A4F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