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94543"/>
        <c:axId val="19425683"/>
      </c:barChart>
      <c:catAx>
        <c:axId val="15094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25683"/>
        <c:crosses val="autoZero"/>
        <c:auto val="1"/>
        <c:lblAlgn val="ctr"/>
        <c:lblOffset val="100"/>
        <c:noMultiLvlLbl val="0"/>
      </c:catAx>
      <c:valAx>
        <c:axId val="19425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94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384-D6D0-498F-9D14-D4956F69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421-6D8F-4463-A85B-FF126281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B30-5FE7-4339-A682-50D58291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46C-B935-4FDB-9B29-E24B8341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CB1-0AB7-4F9A-8439-9AD1A3A3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931-3E79-49B9-928B-0AC4E874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FE0-EB2B-42D7-A68E-C1D99F75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870-C8F0-49AF-A10E-265BB072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35E-D8CD-44DD-A8DA-5A71D4A0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F57-BDB1-433D-8443-375AB44F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1D5-93E4-4A4D-BFD3-910EE76D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DA5-6B65-47D5-868F-94CFDBE4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98DA7-BB6C-4C59-B08B-7034D81276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