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45210"/>
        <c:axId val="46423472"/>
      </c:barChart>
      <c:catAx>
        <c:axId val="39045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23472"/>
        <c:crosses val="autoZero"/>
        <c:auto val="1"/>
        <c:lblAlgn val="ctr"/>
        <c:lblOffset val="100"/>
        <c:noMultiLvlLbl val="0"/>
      </c:catAx>
      <c:valAx>
        <c:axId val="464234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45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F02C-D993-4829-9811-7B140E86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2F6-CBD6-42A5-8126-8C83C233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DE85-5F82-4BEC-8825-8A5B9DDB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0CB6-1F59-4385-8C0B-5309CB2F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82C-2DF1-4CC1-8426-929D2DD5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B6C-8CA6-443E-B055-37DCCFFE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8C5-E0C5-448F-86D1-B1EDADCD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B3AA-4F51-451F-A011-4D19A5F8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350-EA7D-45D3-BD2B-50777B25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14C-FAED-4703-8191-5C40FC3F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4BA1-D2FC-4E27-B69E-76D599DF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EA1-1947-4587-BFA4-94B9BC1A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BCDD4-66A1-456A-BAFC-B2B2F402DC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