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83344"/>
        <c:axId val="33533223"/>
      </c:barChart>
      <c:catAx>
        <c:axId val="64583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33223"/>
        <c:crosses val="autoZero"/>
        <c:auto val="1"/>
        <c:lblAlgn val="ctr"/>
        <c:lblOffset val="100"/>
        <c:noMultiLvlLbl val="0"/>
      </c:catAx>
      <c:valAx>
        <c:axId val="33533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3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BCB-0902-499A-89F4-E64DA704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2F1-B72B-4ECE-93F6-BD7157B6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66C-29D7-49D4-B1BE-B37D9901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7E5-57A8-48FF-B7D5-88610C47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DB9-C9A2-41D1-B336-E944C56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7E5-8297-4C27-92B0-828DAD6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63E-096C-4AC0-93BB-47C5235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042-AFD7-42BC-B96F-DBACD93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7FE-5199-4BBA-B649-4B8B1CB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69D-8B8C-426F-9686-5052377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A50-A1B0-41A5-BCC6-E71B701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6C6-732E-4E88-B5B4-B72D898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A550A-0A1D-4005-8F00-D2DC82D33F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