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2182-CE68-4301-BB2B-0770D0305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A91C-92BD-4F0C-AC7A-4D79217EA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7072-A4B7-4F8D-9ED0-911C68387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4336-5E0C-4CD3-B623-3965AA2FA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2F73-7070-43DD-9F7A-285DBA144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2C62-D26E-4032-9A3E-EEDFA8D5B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5E73-D9D6-4CF8-9414-4D2B7F1A3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182D-949E-4885-B600-1610A76A9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505320" y="-360"/>
            <a:ext cx="5333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70D7-C160-4AA3-A9FA-E90EC6CC6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182E-73D0-436E-91C0-CA5326863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F9CE-1E70-4CCD-94E1-E94B0147C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C0F2-0C7F-4598-AA42-4F63C1E2B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pt_backgr_04_details_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72B04-D93E-4669-A896-80CA90FC4E5D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pt_backgr_01_welkom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Onderwij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rugblik FP CK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ooruitblik FP voor Informatic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elium opnemen in ID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Distributi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centi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anneer openbaar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tform ondersteu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Taal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sect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dule syste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rrefutable patterns (~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ass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Onderzoek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nsformatie (A-termen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ooks” voor andere system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rectory structuu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le / direc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Koppeling met Jav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U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662280" y="228600"/>
            <a:ext cx="5253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Wie doet Wat?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8T08:34:29Z</dcterms:created>
  <dc:creator>Arjan van IJzendoorn</dc:creator>
  <dc:description/>
  <dc:language>en-US</dc:language>
  <cp:lastModifiedBy>Arjan van IJzendoorn</cp:lastModifiedBy>
  <dcterms:modified xsi:type="dcterms:W3CDTF">2002-12-18T08:42:02Z</dcterms:modified>
  <cp:revision>6</cp:revision>
  <dc:subject/>
  <dc:title>Onderwijs</dc:title>
</cp:coreProperties>
</file>