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0CCECF0-CE69-432D-A2BB-22CE3B343169}"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418690C-CDF4-41F4-8326-23649C3284B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84B090D-10DF-4511-9E6D-FF2B18EDF85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74B1514-4CCA-45B5-9900-452B17203EF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DE766B5-773A-4A4F-BAF9-C602A0E07DF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46A1BB7-30E3-4D89-9A28-99714591313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8051B35-7C8F-4BED-BF1A-5D6AD6042BD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A4A2FAB-488C-425A-9E67-6DD38FC1BA6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9C6D05F-08C3-4AE3-A0C2-97B498877D7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0D6C5FA-E576-4F0A-8ACF-6A7DE546179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3E95406-7C81-421E-991A-0C2C99504A1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2C36DF9-AC6F-4E10-8ED7-D1B9B682D83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BA6B62E-8B0B-4B29-99DB-18C4E9C80DA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55FB097-E00E-4050-97F0-10A77B67D23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64845E1-935A-4D7E-8642-560E86F81AF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5F172AF-7268-4D1A-A655-EBAB1D7D9B9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3C39ED8-D191-4683-953D-28069F2B71C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6FA48AD-1D6D-4609-83E8-EB1F7CB3451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94F11CE-4DCA-43C8-9F3A-5811FF81048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9AAC490-7709-402F-BED1-645206198A2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29E39D0-E0FC-4181-B1A8-A3707882F3C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2F985A7-F8AC-4533-BA1E-12CDA40233B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CA063C6-2540-4405-9CEA-5E190E50E07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5E61DD4-7B09-4874-9EED-82FC86AE6D5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48C4B17-5AF1-4DBD-9046-EC9404B63F7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0FBE02A-A8E0-48A5-BCDF-C932ED67698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73A79A2-9645-4747-889C-5EEB0936B66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3514AC4-BF89-4BA6-AF54-5466802119D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A5E273E-8882-4350-8254-2C8766CD00A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696E657-A523-45C0-906E-4CEA14C22EC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722C40D-D516-4970-8491-5D0662CFBC6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7B53590-AAFB-4E05-AB0E-B27881C0E90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7E4F6D2-163D-497B-8695-603C9B5FFA7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AF328E1-14A9-4019-AD21-AE77413D596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5ED8DAF-A6C7-48DC-8655-E9A14956BB9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DE056-510A-4DA2-841D-5992D5CABCEB}"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3D66D-C1FB-49B3-A845-D60D9CECFA67}"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FCB85E73-4A66-4F96-9A2E-0D3455CA62E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1295A41-52A7-4CCD-B529-B78CF127F885}"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6C90B76-2FE2-4BAC-A55C-820CEC46990B}"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F357759-D364-42D2-A95B-D0CD0D266200}"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4007184-CA58-4B30-BFEB-D6DBA28AF253}"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FD875F6-B1A8-44E7-A628-39A1C37FFC4A}"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4AF5594-7FA6-43F9-9CBE-430338728B17}"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B42C088-E4DF-49E6-9474-182B50B1C9D6}"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820913C-5138-4993-AE77-54DB3899C542}"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669CCA1-2535-42E8-AA33-98E77C1C33C7}"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B83FD4E-2B77-43A6-A71D-D4E8ED05795B}"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9BF158B-6B80-4071-A14C-B58A83E52122}"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8A2438E-104A-4E9B-8FE3-BA11A76C22BD}"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58840BC-D604-4BA8-8380-32CFF242C196}"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A97A170-13E1-4BCD-B0F3-27DAF7C87CD7}"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338A831-C1EC-4F3E-A670-FA2D2AA76227}"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47515CB-E1F7-4223-B53A-5A7791C06D6F}"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1D29FD9-ED83-4507-84AA-1B85E11B9B81}"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E030A999-4A12-46D3-A71B-8697D00DD026}"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68E12E02-A40E-4384-AD07-A12818A8F58C}"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65FCE49-41FB-4121-BB0C-E91B806D45EF}"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3BBE55D-68C3-4BAD-96B0-1D9001E74554}"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3F2F1AC-BC92-4FCD-B898-99B568E83F7D}"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90F73BF-5ADE-44F0-B414-A33E1172BE6B}"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DC573CF-5C29-4940-B9FC-4295C180309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D6E3518-D707-4266-953A-DB772CA1DBE1}"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C030422-4B0F-4E5C-BC86-B56BE74D2B0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EC06DFA-69F7-483D-89D7-90FF61DC1A28}"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E4BCCF76-561B-47D5-85B2-97B3EB5356A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323876C-037E-4EC7-8F59-2B97837CE14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36B4978-1674-4B06-B1DC-07BB4CD077E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38CC440-3155-4ED3-9A95-355AD0813357}"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997019A-FEAC-43EA-AF8A-591987DB34A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C08C1F6-4140-42FA-B54F-FE9A1163079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6AA01A6-3A31-41A3-B1E1-0AF57A748AA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9BED572-E5CD-4282-83DA-1DDDEB97FB7E}"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263CDEA-7B55-47BD-8648-365327F3F88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193C61B-FB0F-410A-B2D9-AB5123FB419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07ACED6-7CF9-48F2-96C1-26FE9095FFD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B5C22DF-3B99-4C97-9131-FBE7B5C14F77}"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B884CD4-8E7F-44F4-B031-631CCF201FF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959CE08-6A3B-4E03-8BA2-E32F23217BB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9D0B039-A59D-4E04-A6AC-FB2FB4F9ABDA}"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D242892-748A-4757-A4C3-D81351F57CF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227A50B-D30C-431F-A313-A4E74066754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3F02F62-C23F-40C1-83FA-CF0271A0680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8AAFE35-60AB-490F-92CE-C4BC8F295E6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FAB4CBC-421E-4775-9A9D-10250157DFE7}"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CFE175D-37EF-4687-9C1B-2750DF40EA22}"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F93C163-60C5-433A-BD22-EDAA10896C92}"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198A9B3-48F2-478C-B60C-8BDD3AF3163F}"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52BE81F-4B19-4D1D-85BC-B8BBF18CA55E}"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830D348-436C-40A3-A875-E54E1C2C7AB1}"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0DBF375-7920-48E4-A7CD-7992AB408856}"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CC163D4-409C-4759-878D-9F27C3BAF961}"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CD9AA4B-9182-41FC-8AA8-D3BE06EFB5D7}"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F038874-763A-48BE-8AD2-CBC6560ABFB2}"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DF1A62F-29A3-4F3E-9895-BC47D9350789}"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4B4FCEE-ED47-434E-A18E-B4818990DB18}"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BBAF2A6-2124-46E1-AA67-3BD954360792}"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48A8468-6E58-4D5C-B33F-D1E5347A942E}"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42F8368-F10D-491D-BBE1-45E1803AA954}"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DA222E5-4819-410C-9036-48214675C741}"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4BFA742-C17A-4A15-B5BB-EFB4A868790A}"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C676BA4-90F3-4697-9144-6FF1421A3C86}"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13D9B02-EF85-46D4-BC68-95C3ACB92E1A}"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A936F44-08AF-4AEF-91F8-3A24AC9F574B}"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4D165DD-2672-4BE0-9BD2-B694ACA4D2F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B42D1ED-4D73-4CF4-863E-FAE158A4DB9D}"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E4E20BC-3337-4A83-A3EC-9118FDE2E27E}"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3C8EC06-2128-4677-AAD5-0E2C0836A466}"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09DBF84-973F-46BE-BF55-544A1CB80429}"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AE74265-94B4-41C3-98EF-3B7B38E95D81}"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38A1403-4242-4E75-83DA-19633D2D34B6}"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D3BC601-334F-40FB-AAA2-0CF07A4C4CB8}"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354286E-6D04-401A-95C4-73657875B434}"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10693B4-E103-4FB5-BACD-FC58AC4F794C}"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1AEFF5E-6CFA-473E-96EF-50025875A07B}"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27D4B4D-F08F-4505-9078-F066C9708548}"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B77459A-32DA-41CA-B277-4BA638DB5EF1}"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6B2F0B1-10FA-43AE-B592-294D3F2FA85E}"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F41C0EE-DC68-4B74-94FA-07EAD92FB233}"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E4D2425-C983-431E-9708-E88B061B2FA6}"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DA59989-EC50-4FD7-B3B5-95EC8AD2B6A4}"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6C25562-3FCD-41CF-86DA-754005CD8379}"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0ED203A-CBA4-426E-B27D-1A5580B678D3}"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46502F0-ABAE-48EA-A428-1DB13B15671B}"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A2E0ECE-D2F8-4BFD-8A45-718844AAD49D}"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BB100A6-CCB2-45AD-8F6F-3DBB228957F8}"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275DC08-01F4-405A-9D1E-F281B9948D4C}"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FAE0EE4-21BA-4D47-8450-57E9CF1E6FE1}"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13F475A-C2F1-41C0-907F-0CA3A0F668CD}"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0425DDA-01F2-4CBA-8841-7457BE9069D9}"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4B23A0C-3B06-4872-A11F-526745DD5898}"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70C3AE4-5255-43D5-936F-25F360EDB5D2}"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562285E-6B96-49F5-9184-C77BC2129E53}"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A99B0F4-BE77-47F8-B91E-67E369ED8F85}"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6F1EDC5D-B482-4448-A776-34E6ADEF8586}"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303F88F-D0AD-45D1-9996-4000108CF4D6}"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E51BDD9-D42F-4DC8-A85B-955D3192C00A}"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22BAB1E-0E87-4F0D-BDC7-7CE7C55F5AEC}"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8DB8CDF-1070-4E85-B97B-7A0E4E7A67F5}"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14D8E72-1ED8-4361-9E29-BF1B8DD4ABB1}"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2B1E558-6E2B-4D77-8A7A-C7405A1C7ADA}"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F55541D-2AC2-4525-B117-FB6A31DBAA55}"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BA1C6F4-13FD-415D-A6D4-BF66595785FE}"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30DE951-83DC-419C-9B08-013880D17341}"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CBE5DF8-4B4C-4E6A-9046-215364B30553}"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739E9DE-2748-4165-821A-E286AEC8B88A}"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6B3194D4-FAA4-427A-9387-78580E842A49}"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BEBCC0D-0B55-45FD-B4C6-5CAFB0F3D4D0}"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F925D7F-3C71-417B-97F7-BEC833433D28}"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3A95098-3BDF-425F-9DD7-4931EDF98903}"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30A8DAA-6BCC-4B93-999D-6C8A31946931}"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2CB076A-1F33-4123-96CB-3C975A2EF703}"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090F519-A60C-48FF-8903-3F517B708E85}"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168706D-2C76-4C64-B66B-EE7420B36236}"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4EF8095-197D-44FF-82E9-D6BFF052DB7C}"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C6B44B1-9545-4014-962F-DDF1D2B8ED83}"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13EAADC-0093-4F44-A6F0-2EEED6332414}"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B0A3DBB-E5E4-48E4-A130-477A8B7B8614}"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