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1099"/>
        <c:axId val="81857709"/>
      </c:barChart>
      <c:catAx>
        <c:axId val="78210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57709"/>
        <c:crosses val="autoZero"/>
        <c:auto val="1"/>
        <c:lblAlgn val="ctr"/>
        <c:lblOffset val="100"/>
        <c:noMultiLvlLbl val="0"/>
      </c:catAx>
      <c:valAx>
        <c:axId val="81857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10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BB9-875C-4621-8C24-376C719B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57B-6933-4DFB-8BE7-5DD25949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882-E3DD-4E9C-B27F-A7A0EF72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6AB-35F3-41DF-BEF9-728C7015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B45-1191-47C4-BA15-5897A8DF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A88-4FA7-48BE-B370-178402C3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D7E-1570-4FC0-84DD-6BF59164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D97-E139-4E70-BDBC-3F7F527E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F55-E96E-4BD5-ABDE-00DCAAA7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260-9474-4BEB-A716-69C4083B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43C-15B6-4280-A38B-8F869688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38C-197C-43C7-B507-745580B8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CB19D-4520-4491-BF81-EC5BA8E6A8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