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33258"/>
        <c:axId val="87811720"/>
      </c:barChart>
      <c:catAx>
        <c:axId val="23433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11720"/>
        <c:crosses val="autoZero"/>
        <c:auto val="1"/>
        <c:lblAlgn val="ctr"/>
        <c:lblOffset val="100"/>
        <c:noMultiLvlLbl val="0"/>
      </c:catAx>
      <c:valAx>
        <c:axId val="87811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33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FAA-8851-444A-9A30-46AF3915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25A-2372-4A2C-B9AA-BA86F4BC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BAF-BFF9-484C-937C-77A125A8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5C0-63F6-44D6-933D-17CC0687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1CE-E52F-43FB-88B0-FF2FBC4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45D-87E3-44FA-B191-A8B4FFA8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E87-9498-4200-9ED3-D5452B4E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BAE-1508-4532-911F-2BE6D5DE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37A-7B23-4AAE-A4BA-5942835B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764-19B9-4053-A24D-D39FBF33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A84-EAA0-4FC3-9AFC-38ADDFF2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641-90C6-42A8-8474-F8349EE1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EDB3F-A132-413B-8C80-5B925B6876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